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D49-7C70-49FD-901E-C12CA0F7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479-3ED7-4D8B-A7F0-AE4DED78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BB7-E54C-420A-9DAC-26E008FC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587-83D5-43CC-91CC-B2315682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FEDB-6119-4DF4-9AA1-23E6C581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E4C8-312D-432E-92D9-D5FDCEAC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72DB-427F-471F-83E8-3DC9D6DD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85CB-F642-4C05-8EDE-25F29710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45EE-A6BD-4018-8A8C-1A788C3C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068B-32C7-4479-8863-DE2AAAB3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232C-2760-4069-9470-25B872E4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67BC-14DC-4596-99B6-FBC41448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A727-C4CC-4CB3-82DF-05F3D603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9474-6C0F-4609-AC51-E4978227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18FA-C9EF-4851-8EE7-C0E944A7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332A-5777-4176-AF47-B4DC9BFB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8AAB-D304-4163-8EAB-B70B2E26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5F2D-4157-44F3-AD76-13B26BDD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6C4-3E51-48E1-BB7D-BFF02774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8AD2-6658-435A-94E4-7A0553EB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5DF7-AFA6-45B9-AD68-EFC470A3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114-1DBE-4A62-9C8D-26605526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5A0-1343-430D-BA9A-41DA880A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D47-173C-41C2-9F87-0B3C511C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8520" y="-15480"/>
            <a:ext cx="1162080" cy="20862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C0A6-5ABF-4D76-ADD2-44A79F9A32F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6000" y="24120"/>
            <a:ext cx="1164960" cy="209844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3000" y="-87480"/>
            <a:ext cx="2427480" cy="2247120"/>
            <a:chOff x="717300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3000" y="-87480"/>
              <a:ext cx="2427480" cy="2247120"/>
              <a:chOff x="717300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2128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3000" y="-87480"/>
                <a:ext cx="2427480" cy="2247120"/>
                <a:chOff x="717300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508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576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444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464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1104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4084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496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700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244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4439-99C1-49FE-A759-01991B05BB1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9040" y="4318560"/>
            <a:ext cx="979920" cy="1159560"/>
            <a:chOff x="779904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436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916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728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9040" y="4318560"/>
              <a:ext cx="979920" cy="1159560"/>
              <a:chOff x="779904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784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944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736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580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508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valuare sumativa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tofoliu DeC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. Laurentiu Lucia- Constan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92280"/>
            <a:ext cx="79930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5) Coche la forme correcte et compl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e-la dans le blanc :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1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faut que tu                               davan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vaill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travaille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as trav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e veux qu`il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`he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oi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es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s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est possible que vous                                ce trav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nissez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finissiez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 f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`aimerais qu`ils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mon anniversai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)  viennen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sont venu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viend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1125360"/>
            <a:ext cx="1655640" cy="43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2492280"/>
            <a:ext cx="1655640" cy="43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3645000"/>
            <a:ext cx="1726920" cy="4316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00360" y="4724280"/>
            <a:ext cx="1727280" cy="433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9640" y="620640"/>
            <a:ext cx="78487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Relie les phrases deux par deux, en trouvant la continuation correcte :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est necessaire qu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a.  plus que v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e veux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b.  mieux que m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3 . Ils savent 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iter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c.  vous arriviez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      l`he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4.  Vous travaillez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d.  visiter le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620640"/>
            <a:ext cx="813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7) Traduis en francais :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,5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ebuie neaparat sa vizitati Luvr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te necesar sa cumparati bilete de la casa de bile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te de dorit sa sositi devreme, ca sa aveti timpul de a vedea toate sal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rietenul meu calatoreste la fel de mult ca si m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26920" y="1197000"/>
            <a:ext cx="7490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cris ton professeur princip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( 5-7 lignes)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,5 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oate subiectele sunt obligato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e acorda 1 punct din oficiu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332000" y="836640"/>
            <a:ext cx="68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Grila de corec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Item 1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,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r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r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2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s deux enfants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ssent devant le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` »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3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police est descendue au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ouvre, parce qu`on avait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une to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` « 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p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nte le portrait d`un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eune homme,maitr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an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404640"/>
            <a:ext cx="7993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4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yram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c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rt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gal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5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vai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o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nissi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ien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6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 –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2 - 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3 - 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4 - 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7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faut absolument que vous visitiez le Louvre. Il est 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essaire que vous achetiez des billets au guichet. Il est 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rable que vous arriviez de bonne heure et que vous ayez le temps de voir toutes les salles. Mon ami voyage autant que m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8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4360" y="549360"/>
            <a:ext cx="7559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Barem de corec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1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raspuns corect se noteaza cu 0,25 punc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2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varianta corecta se noteaza cu 0,5 punc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5p x 2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3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raspuns corect se noteaza cu 0,5 punc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5p x 2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4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cuvant completat corect se noteaza cu 0,25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uncte (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5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forma corect completata se noteaza cu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0,25 puncte  ( 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6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asociere de sintagme corect realizata se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teaza cu 0,25 puncte  ( 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26920" y="90792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7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olosirea adecvata a lexicului se noteaza cu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75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unc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tilizarea corecta a cunostintelor de gramatica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obandite ( subjonctivul si gradele de comparatie ale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verbului) se noteaza cu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75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75p x 2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,5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8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 noteaza dupa cum urmeaza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spectarea cerintei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   0,25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eziunea textului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30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erenta textulu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40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mpetenta gramaticala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30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olosirea corecta a articulatorilor logic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25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otal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,5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i    1- 8 =    9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                     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 din ofi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Total :      10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763640" y="333360"/>
          <a:ext cx="6193080" cy="5832360"/>
        </p:xfrm>
        <a:graphic>
          <a:graphicData uri="http://schemas.openxmlformats.org/drawingml/2006/table">
            <a:tbl>
              <a:tblPr/>
              <a:tblGrid>
                <a:gridCol w="2433600"/>
                <a:gridCol w="1960200"/>
                <a:gridCol w="179928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2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2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le si prenumele elev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onescu Bian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ris Andre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jcsa Adr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ig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agu Ramo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ndaric Ion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ula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bovic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catus Bogd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upei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nar Io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mian A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ta Cos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lau Edu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ida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ta Dan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teanu Sebast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5292720" y="62967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dia clasei   6,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476280"/>
            <a:ext cx="914400" cy="4824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4000" y="620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est de evaluare la sfarsitul unitatii de invatare “Alerte au Louv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Rezultatele obtinute / it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39640" y="1484280"/>
          <a:ext cx="8209080" cy="4408560"/>
        </p:xfrm>
        <a:graphic>
          <a:graphicData uri="http://schemas.openxmlformats.org/drawingml/2006/table">
            <a:tbl>
              <a:tblPr/>
              <a:tblGrid>
                <a:gridCol w="1101960"/>
                <a:gridCol w="600120"/>
                <a:gridCol w="599760"/>
                <a:gridCol w="601920"/>
                <a:gridCol w="600120"/>
                <a:gridCol w="601560"/>
                <a:gridCol w="568440"/>
                <a:gridCol w="601560"/>
                <a:gridCol w="531720"/>
                <a:gridCol w="568440"/>
                <a:gridCol w="431640"/>
                <a:gridCol w="500040"/>
                <a:gridCol w="9018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le si prenumele elev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onescu Bian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ris Andre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jcsa Adr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ig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agu Ramo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ndaric Ion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42920" y="981000"/>
            <a:ext cx="69850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OBIECTIVELE DE EVALUARE PENTRU UNITATEA DE INVA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mic Sans MS"/>
              </a:rPr>
              <a:t>“ </a:t>
            </a:r>
            <a:r>
              <a:rPr b="1" i="1" lang="fr-FR" sz="2000" spc="-1" strike="noStrike">
                <a:solidFill>
                  <a:srgbClr val="000000"/>
                </a:solidFill>
                <a:latin typeface="Comic Sans MS"/>
              </a:rPr>
              <a:t>Alerte au Louv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desprinda informatii esentiale dintr-un text scris in limbaj standard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cunoasca si sa utilizeze corect si constient subjonctivul prezent al verbelor regulate si auxiliare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compare contextul de folosire a subjonctivului cu situatii de folosire a altor moduri verbale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cunoasca si sa utilizeze diferitele grade de comparatie ale adverbelor neregu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dea un text din limba romana in limba franc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alizeze portretul unei persoane din anturajul propr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468360" y="476280"/>
          <a:ext cx="8207280" cy="5905080"/>
        </p:xfrm>
        <a:graphic>
          <a:graphicData uri="http://schemas.openxmlformats.org/drawingml/2006/table">
            <a:tbl>
              <a:tblPr/>
              <a:tblGrid>
                <a:gridCol w="1101600"/>
                <a:gridCol w="600120"/>
                <a:gridCol w="600120"/>
                <a:gridCol w="600120"/>
                <a:gridCol w="600120"/>
                <a:gridCol w="601560"/>
                <a:gridCol w="569880"/>
                <a:gridCol w="600120"/>
                <a:gridCol w="530280"/>
                <a:gridCol w="571320"/>
                <a:gridCol w="432000"/>
                <a:gridCol w="498240"/>
                <a:gridCol w="901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ula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e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bovic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ma 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catus Bogd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e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upei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nar Io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atentia psiholog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mian A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n spor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ta Cos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ma dece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lau Edu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ida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ganul de cop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ta Dan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eme logope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mandat 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teanu Sebast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mandat 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16360" y="259560"/>
            <a:ext cx="33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ricea de specifi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14360" y="1604880"/>
            <a:ext cx="123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14360" y="1674720"/>
            <a:ext cx="118908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8360" y="1052640"/>
          <a:ext cx="7848360" cy="4824000"/>
        </p:xfrm>
        <a:graphic>
          <a:graphicData uri="http://schemas.openxmlformats.org/drawingml/2006/table">
            <a:tbl>
              <a:tblPr/>
              <a:tblGrid>
                <a:gridCol w="1493280"/>
                <a:gridCol w="847440"/>
                <a:gridCol w="826200"/>
                <a:gridCol w="963720"/>
                <a:gridCol w="964080"/>
                <a:gridCol w="963360"/>
                <a:gridCol w="826200"/>
                <a:gridCol w="964080"/>
              </a:tblGrid>
              <a:tr h="8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iectiv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inuturi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noas-te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le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t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-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legerea globala a text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item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ea cunostintelor desprinse din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item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ea cunostintelor de folosire a subjonctivului prez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item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2 item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611280" y="620640"/>
          <a:ext cx="8064000" cy="5040000"/>
        </p:xfrm>
        <a:graphic>
          <a:graphicData uri="http://schemas.openxmlformats.org/drawingml/2006/table">
            <a:tbl>
              <a:tblPr/>
              <a:tblGrid>
                <a:gridCol w="1535040"/>
                <a:gridCol w="869400"/>
                <a:gridCol w="848880"/>
                <a:gridCol w="990360"/>
                <a:gridCol w="990360"/>
                <a:gridCol w="992160"/>
                <a:gridCol w="847800"/>
                <a:gridCol w="990000"/>
              </a:tblGrid>
              <a:tr h="15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rea si diferentierea sintagmelor, in vederea asocierii lor corec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1 i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unirea cunostintelor de lexic si gramatica, in vederea redarii unui text din limba romana in limba franc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i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area in scris a unui portr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i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0" y="564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“ Alerte au Louvre”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Test d`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valu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lasse: 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VIII-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A/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6 –e an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 d`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u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2 heures/ sema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nuel Cavallio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f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ucia Laurenti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981000"/>
            <a:ext cx="82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rouve la bonne 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onse : vrai  ou faux ?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1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ra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Faux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 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a Joconde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 La police est descendue au Louvre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 « Jean le Bon « est un tableau de prix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□               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 L` »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 » est une sculpture de Rodin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119700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2) Choisis la bonne 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onse :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1 point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s deux enfants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reviennent du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ssent devant le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 rendent au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le portrait de Jean le Bo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n Rub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`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9640" y="907920"/>
            <a:ext cx="770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3) 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onds aux questions suivantes :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urquoi la police est- elle descendue au Louvre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Que rep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nte l` »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 »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11280" y="1341360"/>
            <a:ext cx="7416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4) Compl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e avec les mots du texte :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                      du Louvre est entou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 d`un cordo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lice.  On n`a pas                       dans le mu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.    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e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 Jean le Bon, qui se trouvait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`ent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 peinture fra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ç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ise 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2708280"/>
            <a:ext cx="12956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3284640"/>
            <a:ext cx="12956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4437000"/>
            <a:ext cx="1368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3789360"/>
            <a:ext cx="1368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3:21:21Z</dcterms:created>
  <dc:creator>LUCIA</dc:creator>
  <dc:description/>
  <dc:language>en-US</dc:language>
  <cp:lastModifiedBy>LUCIA</cp:lastModifiedBy>
  <dcterms:modified xsi:type="dcterms:W3CDTF">2009-05-09T15:47:00Z</dcterms:modified>
  <cp:revision>47</cp:revision>
  <dc:subject/>
  <dc:title>Evaluare sumativa</dc:title>
</cp:coreProperties>
</file>