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F1B-E8C7-43DD-80F4-BA9C98B6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BEB-6B40-4B54-A67F-D9D91CB8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C71-EB94-4428-9210-B5FCF46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B22-D050-486E-A6FE-54FCE1DE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26A8-7FE9-4652-A5E1-F57E5F0E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F2BB-8BBA-485B-94B4-0E6F90F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0AA-8CCB-4C8F-9CEB-C4F0A59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FB39-6528-4D47-A929-1B4AF378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A2F1-0281-4D2F-975E-3AB611D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336-6A2C-461B-A20C-2AD800F7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119B-F015-4A4B-B31B-3D62855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F8B-9F6B-40F9-AFF3-CFB16936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7F22-6D55-4328-9098-19CB6EC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DF32-62C5-4D6E-AAEE-C9494B9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DE34-01C3-46F7-99B2-122257E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0A20-73A2-4E4D-B71E-2C3A8535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458B-7D4E-4B40-9B29-C46ED25A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B92-7726-4497-81DA-E5FC530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C3F-C718-4BC6-B94C-A6965152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8BF-38CD-48DB-B0F8-0EF22DD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540-9081-4DCF-AC30-852F251B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CD2-AD52-49D8-A70C-588A509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A71-DD77-4CE0-A9C2-FA3118B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12D-57FA-40E0-A183-DC37AE6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8520" y="-15480"/>
            <a:ext cx="1162080" cy="20862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5535-09E0-498F-B9CF-A3F5699196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6000" y="24120"/>
            <a:ext cx="1164960" cy="209844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3000" y="-87480"/>
            <a:ext cx="2427480" cy="2247120"/>
            <a:chOff x="717300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3000" y="-87480"/>
              <a:ext cx="2427480" cy="2247120"/>
              <a:chOff x="717300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2128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3000" y="-87480"/>
                <a:ext cx="2427480" cy="2247120"/>
                <a:chOff x="717300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508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576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444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464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1104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4084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496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700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244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DDA-726E-42C5-B098-D11E266194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9040" y="4318560"/>
            <a:ext cx="979920" cy="1159560"/>
            <a:chOff x="77990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728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9040" y="4318560"/>
              <a:ext cx="979920" cy="1159560"/>
              <a:chOff x="77990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784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94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aluare sumativ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ofoliu DeC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. Laurentiu Lucia- Consta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92280"/>
            <a:ext cx="79930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5) Coche la forme correcte et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-la dans le blanc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que tu                               da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travaill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as trav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 qu`il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es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s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possible que vous                                ce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finissie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 f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`aimerais qu`ils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on annivers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)  vienn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)  sont ven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)  viend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2492280"/>
            <a:ext cx="165564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1726920" cy="431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4724280"/>
            <a:ext cx="17272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620640"/>
            <a:ext cx="78487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lie les phrases deux par deux, en trouvant la continuation correcte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est necessair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a.  plus que v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 ve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b.  mieux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. Ils savent 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ite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c.  vous arriviez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l`he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.  Vous travaillez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d.  visiter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62064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7) Traduis en francais :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ebuie neaparat sa vizitati Luvr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necesar sa cumparati bilete de la casa de bil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e de dorit sa sositi devreme, ca sa aveti timpul de a vedea toate sal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etenul meu calatoreste la fel de mult ca si m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26920" y="1197000"/>
            <a:ext cx="749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ris ton professeur prin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( 5-7 lignes)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,5 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ate subiectele sunt oblig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e acorda 1 punct din oficiu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2000" y="836640"/>
            <a:ext cx="68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Grila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Comic Sans MS"/>
              </a:rPr>
              <a:t>Item 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,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police est descendue a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uvre, parce qu`on avai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une to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 « 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e portrait d`un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eune homme,mait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04640"/>
            <a:ext cx="799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yra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al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v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nissi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ie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 - 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 - 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 - 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l faut absolument que vous visitiez le Louvre. Il est 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essaire que vous achetiez des billets au guichet. Il est 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rable que vous arriviez de bonne heure et que vous ayez le temps de voir toutes les salles. Mon ami voyage autant que m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549360"/>
            <a:ext cx="755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Barem de corec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1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25 punc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2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varianta corecta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3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raspuns corect se noteaza cu 0,5 pun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4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cuvant completat corect se noteaza cu 0,2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 (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5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forma corect completata se noteaza cu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6.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iecare asociere de sintagme corect realizata s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aza cu 0,25 puncte  ( 0,25p x 4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90792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7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adecvata a lexicului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tilizarea corecta a cunostintelor de gramatic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obandite ( subjonctivul si gradele de comparatie a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verbului) se noteaza cu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7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0,75p x 2 =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 8.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noteaza dupa cum urmeaza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spectarea cerinte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  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ziunea textului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erenta textulu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4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etenta gramaticala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30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losirea corecta a articulatorilor logic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0,2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otal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,5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Itemi    1- 8 =    9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1 punct din ofi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      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otal :      10 pun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63640" y="333360"/>
          <a:ext cx="6193080" cy="5832360"/>
        </p:xfrm>
        <a:graphic>
          <a:graphicData uri="http://schemas.openxmlformats.org/drawingml/2006/table">
            <a:tbl>
              <a:tblPr/>
              <a:tblGrid>
                <a:gridCol w="2433600"/>
                <a:gridCol w="1960200"/>
                <a:gridCol w="17992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292720" y="62967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clasei   6,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76280"/>
            <a:ext cx="914400" cy="482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st de evaluare la sfarsitul unitatii de invatare “Alerte au Louv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Rezultatele obtinute / it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484280"/>
          <a:ext cx="8209080" cy="4408560"/>
        </p:xfrm>
        <a:graphic>
          <a:graphicData uri="http://schemas.openxmlformats.org/drawingml/2006/table">
            <a:tbl>
              <a:tblPr/>
              <a:tblGrid>
                <a:gridCol w="1101960"/>
                <a:gridCol w="600120"/>
                <a:gridCol w="599760"/>
                <a:gridCol w="601920"/>
                <a:gridCol w="600120"/>
                <a:gridCol w="601560"/>
                <a:gridCol w="568440"/>
                <a:gridCol w="601560"/>
                <a:gridCol w="531720"/>
                <a:gridCol w="568440"/>
                <a:gridCol w="431640"/>
                <a:gridCol w="500040"/>
                <a:gridCol w="9018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ele si prenumele elev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item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aj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nescu Bia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is Andre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jcsa Adr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ig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gu Ram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aric Ion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ie dezorganiz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981000"/>
            <a:ext cx="69850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BIECTIVELE DE EVALUARE PENTRU UNITATEA DE INVA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Alerte au Louv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desprinda informatii esentiale dintr-un text scris in limbaj standard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corect si constient subjonctivul prezent al verbelor regulate si auxiliar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compare contextul de folosire a subjonctivului cu situatii de folosire a altor moduri verbale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cunoasca si sa utilizeze diferitele grade de comparatie ale adverbelor neregu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dea un text din limba romana in limba franc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 realizeze portretul unei persoane din anturajul propr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8360" y="476280"/>
          <a:ext cx="8207280" cy="5905080"/>
        </p:xfrm>
        <a:graphic>
          <a:graphicData uri="http://schemas.openxmlformats.org/drawingml/2006/table">
            <a:tbl>
              <a:tblPr/>
              <a:tblGrid>
                <a:gridCol w="1101600"/>
                <a:gridCol w="600120"/>
                <a:gridCol w="600120"/>
                <a:gridCol w="600120"/>
                <a:gridCol w="600120"/>
                <a:gridCol w="601560"/>
                <a:gridCol w="569880"/>
                <a:gridCol w="600120"/>
                <a:gridCol w="530280"/>
                <a:gridCol w="571320"/>
                <a:gridCol w="432000"/>
                <a:gridCol w="498240"/>
                <a:gridCol w="90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ula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bovici 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tus Bogd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upei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nar Io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tentia psiholog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ian A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n spor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ta Cos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 dece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lau Edu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 Silvi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ida Mi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ganul de cop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ta Dan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e log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teanu Sebast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andat 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16360" y="259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ricea de specif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14360" y="1604880"/>
            <a:ext cx="12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4360" y="1674720"/>
            <a:ext cx="11890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052640"/>
          <a:ext cx="7848360" cy="4824000"/>
        </p:xfrm>
        <a:graphic>
          <a:graphicData uri="http://schemas.openxmlformats.org/drawingml/2006/table">
            <a:tbl>
              <a:tblPr/>
              <a:tblGrid>
                <a:gridCol w="1493280"/>
                <a:gridCol w="847440"/>
                <a:gridCol w="826200"/>
                <a:gridCol w="963720"/>
                <a:gridCol w="964080"/>
                <a:gridCol w="963360"/>
                <a:gridCol w="826200"/>
                <a:gridCol w="964080"/>
              </a:tblGrid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ec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turi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noas-t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t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-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legerea globala a tex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ea cunostintelor desprinse din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item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ea cunostintelor de folosire a subjonctivului prez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2 ite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620640"/>
          <a:ext cx="8064000" cy="5040000"/>
        </p:xfrm>
        <a:graphic>
          <a:graphicData uri="http://schemas.openxmlformats.org/drawingml/2006/table">
            <a:tbl>
              <a:tblPr/>
              <a:tblGrid>
                <a:gridCol w="1535040"/>
                <a:gridCol w="869400"/>
                <a:gridCol w="848880"/>
                <a:gridCol w="990360"/>
                <a:gridCol w="990360"/>
                <a:gridCol w="992160"/>
                <a:gridCol w="847800"/>
                <a:gridCol w="990000"/>
              </a:tblGrid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rea si diferentierea sintagmelor, in vederea asocierii lor corec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unirea cunostintelor de lexic si gramatica, in vederea redarii unui text din limba romana in limba franc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rea in scris a unui port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it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564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“ Alerte au Louvre”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 d`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lasse: 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II-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A/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6 –e an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 d`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 heures/ sema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nuel Cavalli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cia Laurenti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98100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rouve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vrai  ou faux ?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ra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Fau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a Jocond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. La police est descendue au Louvre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. « Jean le Bon « est un tableau de prix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       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.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 est une sculpture de Rodin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□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2) Choisis la bonne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se :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1 poin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deux enfan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reviennent d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sent devant le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 rendent au Lo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le portrait de Jean le B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Rub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□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`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907920"/>
            <a:ext cx="77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3) 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onds aux questions suivantes :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quoi la police est- elle descendue au Louvre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………………………………………………………………………………………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 rep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nte l` »Indi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nt »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…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341360"/>
            <a:ext cx="74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4) Comp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e avec les mots du texte : 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                      du Louvre est ento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`un cord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ice.  On n`a pas                       dans le m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.    On a v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Jean le Bon, qui se trouvai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`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einture fr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s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0828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3284640"/>
            <a:ext cx="12956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437000"/>
            <a:ext cx="1368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789360"/>
            <a:ext cx="1368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3:21:21Z</dcterms:created>
  <dc:creator>LUCIA</dc:creator>
  <dc:description/>
  <dc:language>en-US</dc:language>
  <cp:lastModifiedBy>LUCIA</cp:lastModifiedBy>
  <dcterms:modified xsi:type="dcterms:W3CDTF">2009-05-09T15:47:00Z</dcterms:modified>
  <cp:revision>47</cp:revision>
  <dc:subject/>
  <dc:title>Evaluare sumativa</dc:title>
</cp:coreProperties>
</file>