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C21-92FC-4EB8-9867-64E8DD42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CD8-BC24-47DF-B505-9BA7A879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22B-66C9-4587-99BB-AA5B8D7D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8AC-8239-4E29-A483-894C1B3A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4027-F003-43B3-B61A-5A05F6D6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ADC2-D654-4A69-8108-59E9DEF2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D740-4B15-4335-88C8-90E171F3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795F-CA25-494E-AD00-4A395092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4657-65DC-4C47-A37B-CA2F717D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1765-22A6-465B-A0D3-82A9F0C2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F698-D0F0-46E8-A9C8-02BEE2A6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039-D09C-4B9F-AAB8-8D2E9316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966A-16B5-4126-BD2D-5C4A07AD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2A42-7132-4FFE-A96C-8E0C968A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6AE1-3491-44F0-980C-DAA6D953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9DEE-084F-4B31-8EDE-EC5C839F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9FC1-3D45-483F-9135-7CDC323F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073-B910-4042-80D6-C4D17C9A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5E0-AA08-4C44-8500-C77D7653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F0D-0732-4781-856C-CFC895F6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1E6-0D67-490B-9FE5-8A948B4C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CC6-A50E-45D8-A088-0514085B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6C3-8C0F-4EED-BAF2-0B6D874E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08A-BF74-40B0-85E3-4EF74F14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8520" y="-15480"/>
            <a:ext cx="1162080" cy="20862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1240-B810-4E5B-9235-B7C231664BA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6000" y="24120"/>
            <a:ext cx="1164960" cy="209844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3000" y="-87480"/>
            <a:ext cx="2427480" cy="2247120"/>
            <a:chOff x="717300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3000" y="-87480"/>
              <a:ext cx="2427480" cy="2247120"/>
              <a:chOff x="717300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2128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3000" y="-87480"/>
                <a:ext cx="2427480" cy="2247120"/>
                <a:chOff x="717300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508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576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444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464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1104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4084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496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700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244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97BC-7DF3-41D4-9AF6-972834D11C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9040" y="4318560"/>
            <a:ext cx="979920" cy="1159560"/>
            <a:chOff x="779904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436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916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728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9040" y="4318560"/>
              <a:ext cx="979920" cy="1159560"/>
              <a:chOff x="779904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784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944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736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580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508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valuare sumativ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ofoliu DeC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. Laurentiu Lucia- Constan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92280"/>
            <a:ext cx="79930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5) Coche la forme correcte et comp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-la dans le blanc :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faut que tu                               davan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vaill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travaill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as trav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 veux qu`il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he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oi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es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s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est possible que vous                                ce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nissez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finissiez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 f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`aimerais qu`ils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mon anniversa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)  viennen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sont ven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viend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1125360"/>
            <a:ext cx="1655640" cy="43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2492280"/>
            <a:ext cx="1655640" cy="43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3645000"/>
            <a:ext cx="1726920" cy="431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4724280"/>
            <a:ext cx="1727280" cy="433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620640"/>
            <a:ext cx="78487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Relie les phrases deux par deux, en trouvant la continuation correcte :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est necessair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a.  plus que v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 veux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b.  mieux que m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 . Ils savent 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ite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c.  vous arriviez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   l`he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4.  Vous travaillez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d.  visiter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620640"/>
            <a:ext cx="813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7) Traduis en francais :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,5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ebuie neaparat sa vizitati Luvr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e necesar sa cumparati bilete de la casa de bile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e de dorit sa sositi devreme, ca sa aveti timpul de a vedea toate sal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rietenul meu calatoreste la fel de mult ca si m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26920" y="1197000"/>
            <a:ext cx="749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ris ton professeur princip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( 5-7 lignes)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,5 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oate subiectele sunt obligat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e acorda 1 punct din oficiu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332000" y="836640"/>
            <a:ext cx="68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Grila de corec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Item 1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,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2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deux enfants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sent devant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3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police est descendue au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ouvre, parce qu`on avait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une to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` « 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p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nte le portrait d`un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une homme,maitr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an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404640"/>
            <a:ext cx="799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4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yram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c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rt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gal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5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va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o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nissi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ien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6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–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2 - 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 - 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4 - 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7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faut absolument que vous visitiez le Louvre. Il est 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essaire que vous achetiez des billets au guichet. Il est 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rable que vous arriviez de bonne heure et que vous ayez le temps de voir toutes les salles. Mon ami voyage autant que m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8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4360" y="549360"/>
            <a:ext cx="7559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Barem de corec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1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raspuns corect se noteaza cu 0,25 punc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2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varianta corecta se noteaza cu 0,5 pun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3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raspuns corect se noteaza cu 0,5 pun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4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cuvant completat corect se noteaza cu 0,25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uncte (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5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forma corect completata se noteaza cu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0,25 puncte  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6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asociere de sintagme corect realizata s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teaza cu 0,25 puncte  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26920" y="90792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7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losirea adecvata a lexicului se noteaza cu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75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unc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tilizarea corecta a cunostintelor de gramatica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obandite ( subjonctivul si gradele de comparatie al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verbului) se noteaza cu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7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7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,5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8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 noteaza dupa cum urmeaza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spectarea cerintei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   0,2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eziunea textului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3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erenta textulu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4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petenta gramaticala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3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losirea corecta a articulatorilor logic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2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otal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,5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i    1- 8 =    9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              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 din ofi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Total :      10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763640" y="333360"/>
          <a:ext cx="6193080" cy="5832360"/>
        </p:xfrm>
        <a:graphic>
          <a:graphicData uri="http://schemas.openxmlformats.org/drawingml/2006/table">
            <a:tbl>
              <a:tblPr/>
              <a:tblGrid>
                <a:gridCol w="2433600"/>
                <a:gridCol w="1960200"/>
                <a:gridCol w="179928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si prenumele elev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nescu Bian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is Andre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jcsa Adr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ig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agu Ram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ndaric Ion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ula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bovic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catus Bog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upei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nar Io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ian A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ta Cos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lau Edu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ida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ta Dan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teanu Sebast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5292720" y="62967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dia clasei   6,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476280"/>
            <a:ext cx="914400" cy="482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st de evaluare la sfarsitul unitatii de invatare “Alerte au Louv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Rezultatele obtinute / it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39640" y="1484280"/>
          <a:ext cx="8209080" cy="4408560"/>
        </p:xfrm>
        <a:graphic>
          <a:graphicData uri="http://schemas.openxmlformats.org/drawingml/2006/table">
            <a:tbl>
              <a:tblPr/>
              <a:tblGrid>
                <a:gridCol w="1101960"/>
                <a:gridCol w="600120"/>
                <a:gridCol w="599760"/>
                <a:gridCol w="601920"/>
                <a:gridCol w="600120"/>
                <a:gridCol w="601560"/>
                <a:gridCol w="568440"/>
                <a:gridCol w="601560"/>
                <a:gridCol w="531720"/>
                <a:gridCol w="568440"/>
                <a:gridCol w="431640"/>
                <a:gridCol w="500040"/>
                <a:gridCol w="9018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si prenumele elev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nescu Bian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is Andre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jcsa Adr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ig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agu Ram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ndaric Ion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42920" y="981000"/>
            <a:ext cx="69850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OBIECTIVELE DE EVALUARE PENTRU UNITATEA DE INVA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Alerte au Louv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desprinda informatii esentiale dintr-un text scris in limbaj standard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cunoasca si sa utilizeze corect si constient subjonctivul prezent al verbelor regulate si auxiliare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compare contextul de folosire a subjonctivului cu situatii de folosire a altor moduri verbale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cunoasca si sa utilizeze diferitele grade de comparatie ale adverbelor neregu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dea un text din limba romana in limba franc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alizeze portretul unei persoane din anturajul propr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68360" y="476280"/>
          <a:ext cx="8207280" cy="5905080"/>
        </p:xfrm>
        <a:graphic>
          <a:graphicData uri="http://schemas.openxmlformats.org/drawingml/2006/table">
            <a:tbl>
              <a:tblPr/>
              <a:tblGrid>
                <a:gridCol w="1101600"/>
                <a:gridCol w="600120"/>
                <a:gridCol w="600120"/>
                <a:gridCol w="600120"/>
                <a:gridCol w="600120"/>
                <a:gridCol w="601560"/>
                <a:gridCol w="569880"/>
                <a:gridCol w="600120"/>
                <a:gridCol w="530280"/>
                <a:gridCol w="571320"/>
                <a:gridCol w="432000"/>
                <a:gridCol w="498240"/>
                <a:gridCol w="901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ula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bovic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ma 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catus Bog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upei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nar Io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atentia psiholog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ian A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n spor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ta Cos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ma dece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lau Edu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ida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ganul de cop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ta Dan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eme logope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andat 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teanu Sebast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andat 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16360" y="259560"/>
            <a:ext cx="33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ricea de specif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14360" y="1604880"/>
            <a:ext cx="123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14360" y="1674720"/>
            <a:ext cx="118908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8360" y="1052640"/>
          <a:ext cx="7848360" cy="4824000"/>
        </p:xfrm>
        <a:graphic>
          <a:graphicData uri="http://schemas.openxmlformats.org/drawingml/2006/table">
            <a:tbl>
              <a:tblPr/>
              <a:tblGrid>
                <a:gridCol w="1493280"/>
                <a:gridCol w="847440"/>
                <a:gridCol w="826200"/>
                <a:gridCol w="963720"/>
                <a:gridCol w="964080"/>
                <a:gridCol w="963360"/>
                <a:gridCol w="826200"/>
                <a:gridCol w="964080"/>
              </a:tblGrid>
              <a:tr h="8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iectiv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inuturi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noas-te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le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t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-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legerea globala a text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item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ea cunostintelor desprinse din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item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ea cunostintelor de folosire a subjonctivului prez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2 item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11280" y="620640"/>
          <a:ext cx="8064000" cy="5040000"/>
        </p:xfrm>
        <a:graphic>
          <a:graphicData uri="http://schemas.openxmlformats.org/drawingml/2006/table">
            <a:tbl>
              <a:tblPr/>
              <a:tblGrid>
                <a:gridCol w="1535040"/>
                <a:gridCol w="869400"/>
                <a:gridCol w="848880"/>
                <a:gridCol w="990360"/>
                <a:gridCol w="990360"/>
                <a:gridCol w="992160"/>
                <a:gridCol w="847800"/>
                <a:gridCol w="990000"/>
              </a:tblGrid>
              <a:tr h="15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rea si diferentierea sintagmelor, in vederea asocierii lor corec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unirea cunostintelor de lexic si gramatica, in vederea redarii unui text din limba romana in limba franc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rea in scris a unui portr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0" y="564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“ Alerte au Louvre”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est d`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val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lasse: 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VIII-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A/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6 –e an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 d`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u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2 heures/ sema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nuel Cavallio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f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ucia Laurenti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98100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rouve la bonne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se : vrai  ou faux ?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Faux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 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a Joconde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 La police est descendue au Louvre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 « Jean le Bon « est un tableau de prix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               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 est une sculpture de Rodin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1197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2) Choisis la bonne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se :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1 point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deux enfants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reviennent du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sent devant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 rendent au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le portrait de Jean le Bo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 Rub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`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9640" y="907920"/>
            <a:ext cx="770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3)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ds aux questions suivantes :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urquoi la police est- elle descendue au Louvre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e rep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nte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1280" y="1341360"/>
            <a:ext cx="7416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4) Comp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 avec les mots du texte :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                      du Louvre est entou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 d`un cord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lice.  On n`a pas                       dans le mu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.    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e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Jean le Bon, qui se trouvai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ent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peinture fra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ise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708280"/>
            <a:ext cx="12956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3284640"/>
            <a:ext cx="12956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437000"/>
            <a:ext cx="1368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3789360"/>
            <a:ext cx="1368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3:21:21Z</dcterms:created>
  <dc:creator>LUCIA</dc:creator>
  <dc:description/>
  <dc:language>en-US</dc:language>
  <cp:lastModifiedBy>LUCIA</cp:lastModifiedBy>
  <dcterms:modified xsi:type="dcterms:W3CDTF">2009-05-09T15:47:00Z</dcterms:modified>
  <cp:revision>47</cp:revision>
  <dc:subject/>
  <dc:title>Evaluare sumativa</dc:title>
</cp:coreProperties>
</file>