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BC35-5A5D-43F8-8EC4-D2F364382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1976-2213-4FC3-97D8-6E811994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5484-38DF-435A-99C0-868571B5B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B357-3560-4517-AB4F-594F22A9B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8E8F-62C2-4798-AE25-D15488455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AD69-B39D-4106-BA0C-2EFFB2FB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4857-0A85-49AC-A7A4-7EA456C0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6E26-5B59-4A2D-A051-D2C98587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4E1F-1B82-4980-B98D-342F71F4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70A8-80CD-4A11-8450-755D0DE8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D210-7751-46BC-9F81-42A25BED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B40E-8BA2-4092-A645-3F364E19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63B2-99C8-4908-846C-47F5028F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FA03-A210-48AE-9057-ADA81C99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A5D2-EBFB-44B5-B180-3FCC0761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93B3-FA6B-4CA6-BDE9-67A16D87E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91F4F-E8F1-4C4C-B939-0E1E3B169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099E-2852-46B9-97E1-9C86AD46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7349-5313-450D-9B1B-7236464D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B90D-C1FD-4D15-9BE2-3E01DEF8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B5AE-2400-4BE2-ADEA-EC61C488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7C08-0A53-4492-B40A-8EC67003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6E22-CC03-4C77-BDF4-F1A59854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A941-4AD5-454D-8F4D-7C8F3484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8520" y="-15480"/>
            <a:ext cx="1162080" cy="20862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7BF8-CDAF-4AE9-9825-89F488C3CCF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6000" y="24120"/>
            <a:ext cx="1164960" cy="209844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3000" y="-87480"/>
            <a:ext cx="2427480" cy="2247120"/>
            <a:chOff x="717300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3000" y="-87480"/>
              <a:ext cx="2427480" cy="2247120"/>
              <a:chOff x="717300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2128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3000" y="-87480"/>
                <a:ext cx="2427480" cy="2247120"/>
                <a:chOff x="717300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508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576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444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464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1104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4084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496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700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244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E5F4-61A0-4C35-ADA9-A4EA8E81FB8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9040" y="4318560"/>
            <a:ext cx="979920" cy="1159560"/>
            <a:chOff x="779904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436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916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728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9040" y="4318560"/>
              <a:ext cx="979920" cy="1159560"/>
              <a:chOff x="779904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784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944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736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580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508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valuare sumativa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rtofoliu DeCe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f. Laurentiu Lucia- Constan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0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11280" y="692280"/>
            <a:ext cx="799308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5) Coche la forme correcte et compl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è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te-la dans le blanc :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1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Il faut que tu                               davant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ravaillai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)  travaille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)  as trava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Je veux qu`il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l`he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oit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)  est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)  s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Il est possible que vous                                ce trava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inissez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)  finissiez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)   f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J`aimerais qu`ils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mon anniversai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)  viennent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)  sont venu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)  viend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40000" y="1125360"/>
            <a:ext cx="1655640" cy="4320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56000" y="2492280"/>
            <a:ext cx="1655640" cy="4320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19640" y="3645000"/>
            <a:ext cx="1726920" cy="4316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00360" y="4724280"/>
            <a:ext cx="1727280" cy="433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39640" y="620640"/>
            <a:ext cx="784872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Relie les phrases deux par deux, en trouvant la continuation correcte :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1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Il est necessaire qu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a.  plus que vo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Je veux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b.  mieux que mo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3 . Ils savent 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iter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c.  vous arriviez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          l`he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4.  Vous travaillez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d.  visiter le Louv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68360" y="620640"/>
            <a:ext cx="8136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7) Traduis en francais :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1,5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rebuie neaparat sa vizitati Luvru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……………………………………………………………………………………………………………………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ste necesar sa cumparati bilete de la casa de bile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………………………………………………………………………………………………………………………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………………………………………………………………………………………………………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ste de dorit sa sositi devreme, ca sa aveti timpul de a vedea toate sal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………………………………………………………………………………………………………………………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……………………………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rietenul meu calatoreste la fel de mult ca si m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…………………………………………………………………………………………………………………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826920" y="1197000"/>
            <a:ext cx="7490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cris ton professeur princip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( 5-7 lignes)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1,5 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Toate subiectele sunt obligator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Se acorda 1 punct din oficiu.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332000" y="836640"/>
            <a:ext cx="684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Grila de corect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Comic Sans MS"/>
              </a:rPr>
              <a:t>Item 1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,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vr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vr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.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Item 2.</a:t>
            </a: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es deux enfants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assent devant le Louv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On a vo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l` »Indiff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ent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Item 3.</a:t>
            </a: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a police est descendue au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ouvre, parce qu`on avait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vo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une to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` « Indiff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ent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ep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ente le portrait d`un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jeune homme,maitre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an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55640" y="404640"/>
            <a:ext cx="7993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Item 4.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yram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c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è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ortr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gale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Item 5.</a:t>
            </a: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ravai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o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inissi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vien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Item 6.</a:t>
            </a: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1 –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2 -  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3 - 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4 -  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Item 7.</a:t>
            </a: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Il faut absolument que vous visitiez le Louvre. Il est 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essaire que vous achetiez des billets au guichet. Il est 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irable que vous arriviez de bonne heure et que vous ayez le temps de voir toutes les salles. Mon ami voyage autant que mo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Item 8.</a:t>
            </a: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ss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4360" y="549360"/>
            <a:ext cx="7559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Barem de corect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Item 1.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iecare raspuns corect se noteaza cu 0,25 punct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 0,25p x 4 = 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1 punct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Item 2.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iecare varianta corecta se noteaza cu 0,5 punc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 0,5p x 2 = 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1 punct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Item 3.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iecare raspuns corect se noteaza cu 0,5 punc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 0,5p x 2 = 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1 punct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Item 4.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iecare cuvant completat corect se noteaza cu 0,25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uncte (0,25p x 4 = 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1 punct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Item 5.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iecare forma corect completata se noteaza cu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0,25 puncte  ( 0,25p x 4 = 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1 punct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Item 6.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iecare asociere de sintagme corect realizata se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noteaza cu 0,25 puncte  ( 0,25p x 4 = 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1 punct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826920" y="907920"/>
            <a:ext cx="7632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Item 7.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olosirea adecvata a lexicului se noteaza cu </a:t>
            </a:r>
            <a:r>
              <a:rPr b="0" lang="fr-FR" sz="1800" spc="-1" strike="noStrike">
                <a:solidFill>
                  <a:srgbClr val="008000"/>
                </a:solidFill>
                <a:latin typeface="Comic Sans MS"/>
              </a:rPr>
              <a:t>0,75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unc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Utilizarea corecta a cunostintelor de gramatica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obandite ( subjonctivul si gradele de comparatie ale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dverbului) se noteaza cu </a:t>
            </a:r>
            <a:r>
              <a:rPr b="0" lang="fr-FR" sz="1800" spc="-1" strike="noStrike">
                <a:solidFill>
                  <a:srgbClr val="008000"/>
                </a:solidFill>
                <a:latin typeface="Comic Sans MS"/>
              </a:rPr>
              <a:t>0,75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punc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 0,75p x 2 = 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1,5</a:t>
            </a:r>
            <a:r>
              <a:rPr b="0" lang="fr-FR" sz="1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punct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Item 8.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e noteaza dupa cum urmeaza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espectarea cerintei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8000"/>
                </a:solidFill>
                <a:latin typeface="Comic Sans MS"/>
              </a:rPr>
              <a:t>   0,25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pun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oeziunea textului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r-FR" sz="1800" spc="-1" strike="noStrike">
                <a:solidFill>
                  <a:srgbClr val="008000"/>
                </a:solidFill>
                <a:latin typeface="Comic Sans MS"/>
              </a:rPr>
              <a:t>0,30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pun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oerenta textului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fr-FR" sz="1800" spc="-1" strike="noStrike">
                <a:solidFill>
                  <a:srgbClr val="008000"/>
                </a:solidFill>
                <a:latin typeface="Comic Sans MS"/>
              </a:rPr>
              <a:t>0,40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pun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ompetenta gramaticala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fr-FR" sz="1800" spc="-1" strike="noStrike">
                <a:solidFill>
                  <a:srgbClr val="008000"/>
                </a:solidFill>
                <a:latin typeface="Comic Sans MS"/>
              </a:rPr>
              <a:t>0,30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pun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olosirea corecta a articulatorilor logici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r-FR" sz="1800" spc="-1" strike="noStrike">
                <a:solidFill>
                  <a:srgbClr val="008000"/>
                </a:solidFill>
                <a:latin typeface="Comic Sans MS"/>
              </a:rPr>
              <a:t>0,25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pun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Total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1,5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pun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Itemi    1- 8 =    9 pun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                      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1 punct din ofic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       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Total :      10 pun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1763640" y="333360"/>
          <a:ext cx="6193080" cy="5832360"/>
        </p:xfrm>
        <a:graphic>
          <a:graphicData uri="http://schemas.openxmlformats.org/drawingml/2006/table">
            <a:tbl>
              <a:tblPr/>
              <a:tblGrid>
                <a:gridCol w="2433600"/>
                <a:gridCol w="1960200"/>
                <a:gridCol w="1799280"/>
              </a:tblGrid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52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52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ele si prenumele elevulu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a t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onescu Bian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ris Andre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jcsa Adri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liga Silvi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agu Ramo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ndaric Ion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culai Pau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mbovici Pau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catus Bogd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upei Mih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lnar Io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mian Al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eta Cos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slau Edu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da Silvi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ida Mih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ta Dani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nteanu Sebasti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5292720" y="629676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dia clasei   6,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4360" y="476280"/>
            <a:ext cx="914400" cy="4824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Z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24000" y="620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Test de evaluare la sfarsitul unitatii de invatare “Alerte au Louvr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Rezultatele obtinute / it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539640" y="1484280"/>
          <a:ext cx="8209080" cy="4408560"/>
        </p:xfrm>
        <a:graphic>
          <a:graphicData uri="http://schemas.openxmlformats.org/drawingml/2006/table">
            <a:tbl>
              <a:tblPr/>
              <a:tblGrid>
                <a:gridCol w="1101960"/>
                <a:gridCol w="600120"/>
                <a:gridCol w="599760"/>
                <a:gridCol w="601920"/>
                <a:gridCol w="600120"/>
                <a:gridCol w="601560"/>
                <a:gridCol w="568440"/>
                <a:gridCol w="601560"/>
                <a:gridCol w="531720"/>
                <a:gridCol w="568440"/>
                <a:gridCol w="431640"/>
                <a:gridCol w="500040"/>
                <a:gridCol w="9018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ele si prenumele elevulu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ctaj item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ctaj item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ctaj item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ctaj item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ctaj item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ctaj item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ctaj item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ctaj item 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ctaj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onescu Bian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ris Andre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jcsa Adri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milie dezorganiz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liga Silvi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milie dezorganiz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agu Ramo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milie dezorganiz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ndaric Ion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milie dezorganiz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042920" y="981000"/>
            <a:ext cx="698508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OBIECTIVELE DE EVALUARE PENTRU UNITATEA DE INVAT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omic Sans MS"/>
              </a:rPr>
              <a:t>“ </a:t>
            </a:r>
            <a:r>
              <a:rPr b="1" i="1" lang="fr-FR" sz="2000" spc="-1" strike="noStrike">
                <a:solidFill>
                  <a:srgbClr val="000000"/>
                </a:solidFill>
                <a:latin typeface="Comic Sans MS"/>
              </a:rPr>
              <a:t>Alerte au Louvr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 desprinda informatii esentiale dintr-un text scris in limbaj standard 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 recunoasca si sa utilizeze corect si constient subjonctivul prezent al verbelor regulate si auxiliare 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 compare contextul de folosire a subjonctivului cu situatii de folosire a altor moduri verbale 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 recunoasca si sa utilizeze diferitele grade de comparatie ale adverbelor neregul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 redea un text din limba romana in limba francez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 realizeze portretul unei persoane din anturajul propri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468360" y="476280"/>
          <a:ext cx="8207280" cy="5905080"/>
        </p:xfrm>
        <a:graphic>
          <a:graphicData uri="http://schemas.openxmlformats.org/drawingml/2006/table">
            <a:tbl>
              <a:tblPr/>
              <a:tblGrid>
                <a:gridCol w="1101600"/>
                <a:gridCol w="600120"/>
                <a:gridCol w="600120"/>
                <a:gridCol w="600120"/>
                <a:gridCol w="600120"/>
                <a:gridCol w="601560"/>
                <a:gridCol w="569880"/>
                <a:gridCol w="600120"/>
                <a:gridCol w="530280"/>
                <a:gridCol w="571320"/>
                <a:gridCol w="432000"/>
                <a:gridCol w="498240"/>
                <a:gridCol w="9018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culai Pau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e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mbovici Pau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ma Ital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catus Bogd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e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upei Mih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lnar Io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 atentia psihologulu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mian Al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n sport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eta Cos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ma dece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slau Edu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da Silvi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ida Mih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aganul de cop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ta Dani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eme logoped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omandat 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nteanu Sebasti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omandat 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916360" y="259560"/>
            <a:ext cx="335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atricea de specific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14360" y="1604880"/>
            <a:ext cx="1239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14360" y="1674720"/>
            <a:ext cx="1189080" cy="56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68360" y="1052640"/>
          <a:ext cx="7848360" cy="4824000"/>
        </p:xfrm>
        <a:graphic>
          <a:graphicData uri="http://schemas.openxmlformats.org/drawingml/2006/table">
            <a:tbl>
              <a:tblPr/>
              <a:tblGrid>
                <a:gridCol w="1493280"/>
                <a:gridCol w="847440"/>
                <a:gridCol w="826200"/>
                <a:gridCol w="963720"/>
                <a:gridCol w="964080"/>
                <a:gridCol w="963360"/>
                <a:gridCol w="826200"/>
                <a:gridCol w="964080"/>
              </a:tblGrid>
              <a:tr h="8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iectiv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inuturi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noas-te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le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lica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ali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te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alua-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legerea globala a textulu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 item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zarea cunostintelor desprinse din tex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 itemi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licarea cunostintelor de folosire a subjonctivului prez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 item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2 item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611280" y="620640"/>
          <a:ext cx="8064000" cy="5040000"/>
        </p:xfrm>
        <a:graphic>
          <a:graphicData uri="http://schemas.openxmlformats.org/drawingml/2006/table">
            <a:tbl>
              <a:tblPr/>
              <a:tblGrid>
                <a:gridCol w="1535040"/>
                <a:gridCol w="869400"/>
                <a:gridCol w="848880"/>
                <a:gridCol w="990360"/>
                <a:gridCol w="990360"/>
                <a:gridCol w="992160"/>
                <a:gridCol w="847800"/>
                <a:gridCol w="990000"/>
              </a:tblGrid>
              <a:tr h="153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rea si diferentierea sintagmelor, in vederea asocierii lor corec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1 ite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unirea cunostintelor de lexic si gramatica, in vederea redarii unui text din limba romana in limba france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 ite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area in scris a unui portr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 ite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0" y="564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Un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“ Alerte au Louvre”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Test d`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valu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lasse: 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VIII-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A/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L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6 –e an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 d`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u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2 heures/ semai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anuel Cavallio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of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ucia Laurenti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24000" y="981000"/>
            <a:ext cx="8280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Trouve la bonne r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ponse : vrai  ou faux ?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1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Vrai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Faux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. On a vo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la Joconde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    □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□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. La police est descendue au Louvre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□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□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. « Jean le Bon « est un tableau de prix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□               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. L` »Indiff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ent » est une sculpture de Rodin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□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11280" y="1197000"/>
            <a:ext cx="78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2) Choisis la bonne r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ponse :                                     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1 point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es deux enfants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□ reviennent du Louv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□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assent devant le Louv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□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e rendent au Louv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On a vo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□ le portrait de Jean le Bon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□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un Rube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□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`Indiff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539640" y="907920"/>
            <a:ext cx="770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3) R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ponds aux questions suivantes :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1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ourquoi la police est- elle descendue au Louvre 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………………………………………………………………………………………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………………………………………………………………………………………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………………………………………………………………………………………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Que rep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ente l` »Indiff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ent » 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……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……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……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11280" y="1341360"/>
            <a:ext cx="741672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4) Compl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è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te avec les mots du texte :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1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a                       du Louvre est entou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 d`un cordo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olice.  On n`a pas                       dans le mu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.    On a vo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le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e Jean le Bon, qui se trouvait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l`ent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e peinture fra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ç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ise 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24000" y="2708280"/>
            <a:ext cx="12956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71640" y="3284640"/>
            <a:ext cx="12956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1280" y="4437000"/>
            <a:ext cx="13683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6920" y="3789360"/>
            <a:ext cx="136872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3T13:21:21Z</dcterms:created>
  <dc:creator>LUCIA</dc:creator>
  <dc:description/>
  <dc:language>en-US</dc:language>
  <cp:lastModifiedBy>LUCIA</cp:lastModifiedBy>
  <dcterms:modified xsi:type="dcterms:W3CDTF">2009-05-09T15:47:00Z</dcterms:modified>
  <cp:revision>47</cp:revision>
  <dc:subject/>
  <dc:title>Evaluare sumativa</dc:title>
</cp:coreProperties>
</file>