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BBB-BD1D-465C-A96E-D7714AC5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FA2-A572-49AA-858D-727F53C5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570-6CE5-43DC-89F4-C2D23DD9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BC8-1AB2-43D5-BE8B-A0B4117F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AA3-D1AC-49BB-A824-349A0777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AD0-E118-47BC-96DE-16CDE80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BDD-D798-4C9D-84F8-1F5E8E85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B56-E43C-40A7-91C4-3F2D9AAD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761-CE88-4D01-AAA1-45B5346A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0EE-30A1-4A2C-9D06-E0D7527F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295-4CED-48A6-936C-F2E746AD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020-B652-481B-A345-60E907F6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FBB5-E6D7-463F-8773-30F103BA5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v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er audio de pe Wiki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19320" y="1616040"/>
            <a:ext cx="6248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mentar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055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47Z</dcterms:created>
  <dc:creator>User</dc:creator>
  <dc:description/>
  <dc:language>en-US</dc:language>
  <cp:lastModifiedBy>User</cp:lastModifiedBy>
  <dcterms:modified xsi:type="dcterms:W3CDTF">2012-02-04T11:06:08Z</dcterms:modified>
  <cp:revision>11</cp:revision>
  <dc:subject/>
  <dc:title>Capitolul 3</dc:title>
</cp:coreProperties>
</file>