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D18-9A94-4038-933C-41A03696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3F9-FEAE-4619-8180-1DA7055F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00A-BDBD-49B9-A0DE-ACE617CC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39B-19BF-45D4-AC4A-D253176C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ABD-316B-4C6C-AB66-21F52F75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D84-97DE-4A64-B40D-6209A90C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8AF-ECE0-4286-AEB8-D0E067A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D8E-1C6A-467F-8D15-CE6ABE2C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C1A-93F7-422D-8599-CE1CDEB5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0DC-D62D-47CB-8474-01B3D46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E89-CF7A-4AEE-835D-C7588F9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C78-645F-46A5-8896-7B01A03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0172-5A8C-444A-8414-544CC546F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olul 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rearea unui test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var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ier audio de pe Wiki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19320" y="1616040"/>
            <a:ext cx="62481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comentar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055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7:47Z</dcterms:created>
  <dc:creator>User</dc:creator>
  <dc:description/>
  <dc:language>en-US</dc:language>
  <cp:lastModifiedBy>User</cp:lastModifiedBy>
  <dcterms:modified xsi:type="dcterms:W3CDTF">2012-02-04T11:06:08Z</dcterms:modified>
  <cp:revision>11</cp:revision>
  <dc:subject/>
  <dc:title>Capitolul 3</dc:title>
</cp:coreProperties>
</file>