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307-E509-4026-8A82-47BDD8B5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0B9-D2B6-497C-8689-17487811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662-DF1D-4AEB-A66B-D281A74A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317-CB5B-4F8F-B107-2A331FEB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E64-96A7-40EF-B3C5-2AE49458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7EA-EB73-4FF9-BE7E-8A73B3F6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08E-69B3-466A-AFFC-C6F39B01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FDB-2CFE-4F75-9D39-429E5D62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98E-7171-4501-99E0-7A2C44DA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236-40BC-4253-955D-E6FB7CC1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67ED-0478-4A2D-B4E2-AC1B6A2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CE8-1A2D-4218-98FF-2B84BA7C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FE8E-A629-46EF-B4FB-C74871CEF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rearea unui test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v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ier audio de pe Wiki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219320" y="1616040"/>
            <a:ext cx="62481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comentar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055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47Z</dcterms:created>
  <dc:creator>User</dc:creator>
  <dc:description/>
  <dc:language>en-US</dc:language>
  <cp:lastModifiedBy>User</cp:lastModifiedBy>
  <dcterms:modified xsi:type="dcterms:W3CDTF">2012-02-04T11:06:08Z</dcterms:modified>
  <cp:revision>11</cp:revision>
  <dc:subject/>
  <dc:title>Capitolul 3</dc:title>
</cp:coreProperties>
</file>