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3B6-F6C2-4B82-B217-BA9EC83F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DA9-1264-4390-8F36-8067BA18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46A-04C7-43F4-B9DC-D399C241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5ED-F665-4CB2-8539-BDAD6232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22A-32ED-4516-8736-ED5D70B0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0D8-9F4B-424B-B2E3-108BBEAD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89D-9B99-4DFB-89C4-AA6F815F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AEA-896F-4810-86E2-1D70EDD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0CB-9F93-4980-8F2F-FCD6F1D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569-8ED2-465A-B939-4499CD8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D8D-E463-4679-AC2C-62F4BB2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57D-AF21-4876-9457-E5901103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3C61-0E7D-4CC9-AF8D-E33CF6206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v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er audio de pe Wiki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19320" y="1616040"/>
            <a:ext cx="6248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mentar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055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47Z</dcterms:created>
  <dc:creator>User</dc:creator>
  <dc:description/>
  <dc:language>en-US</dc:language>
  <cp:lastModifiedBy>User</cp:lastModifiedBy>
  <dcterms:modified xsi:type="dcterms:W3CDTF">2012-02-04T11:06:08Z</dcterms:modified>
  <cp:revision>11</cp:revision>
  <dc:subject/>
  <dc:title>Capitolul 3</dc:title>
</cp:coreProperties>
</file>