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24F-527C-4EBA-A30D-C79CD7C1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927-9702-4D9F-84B4-C81C25B8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6DF-C251-498B-BA4D-67B32391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033-FB23-4B9E-8A78-98F9739D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0DF-FFF9-47C4-AA0D-23DF3EF6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13DB-A569-4E02-8FC1-4234A1EB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4AE-C0A9-452E-A04B-9B594E93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C2A-1F54-42CB-9029-253DEAF7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BF3-6086-47DD-A8E5-377BE44F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99C-28A2-4BD5-BF11-014E4026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9FC-39BB-4E82-B75F-C203A8EC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FD2F-E3C0-4F1F-A8D6-9519C062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A4D4-8588-474D-8173-F6C387AE3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olul 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rearea unui test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627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lv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0080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ier audio de pe Wikisp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219320" y="1616040"/>
            <a:ext cx="62481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comentari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1055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17:47Z</dcterms:created>
  <dc:creator>User</dc:creator>
  <dc:description/>
  <dc:language>en-US</dc:language>
  <cp:lastModifiedBy>User</cp:lastModifiedBy>
  <dcterms:modified xsi:type="dcterms:W3CDTF">2012-02-04T11:06:08Z</dcterms:modified>
  <cp:revision>11</cp:revision>
  <dc:subject/>
  <dc:title>Capitolul 3</dc:title>
</cp:coreProperties>
</file>