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296-DB3A-4B93-819F-D2ACC4FE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564-3AB7-407C-8A1E-E49BA8A4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D5E-A62C-46FA-8733-9C0B1AE8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6B4-02C8-48ED-A350-7004A8E1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49C-349B-4432-9789-020E3782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352-0181-40A4-81F1-B887F30B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269-B8D0-4B6F-AF28-F2C2DE84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C68-FFDE-4AE6-B3DE-79F17713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053-2DDD-48A5-BF10-B23AF507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4BE-6C80-4C0D-BC00-74966FD9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1AB-64B0-4286-9C70-28318CA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1E0-CA36-4DEC-926F-A1F6A669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2C99-A02D-4839-8585-102C15563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v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ier audio de pe Wiki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219320" y="1616040"/>
            <a:ext cx="6248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omentar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055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47Z</dcterms:created>
  <dc:creator>User</dc:creator>
  <dc:description/>
  <dc:language>en-US</dc:language>
  <cp:lastModifiedBy>User</cp:lastModifiedBy>
  <dcterms:modified xsi:type="dcterms:W3CDTF">2012-02-04T11:06:08Z</dcterms:modified>
  <cp:revision>11</cp:revision>
  <dc:subject/>
  <dc:title>Capitolul 3</dc:title>
</cp:coreProperties>
</file>