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6858000" cy="9144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359D95-7E0E-4702-8055-7D7A1F9D1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514440" y="2437920"/>
            <a:ext cx="577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514440" y="4985280"/>
            <a:ext cx="577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76B5A-3309-4766-9A19-267288B08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51444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347220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51444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347220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F5466C-B169-486E-B532-4E13082F40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514440" y="243792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2466000" y="243792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4417560" y="243792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514440" y="498528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2466000" y="498528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4417560" y="498528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48C34E-79A8-4BBC-A1A8-F6F526491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4D777B-258E-4138-AB8E-4C3499B7F7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514440" y="2437920"/>
            <a:ext cx="577224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04D5F8-457A-4D96-9CD7-D3D9A37AA3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514440" y="2437920"/>
            <a:ext cx="57722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F699EB-F203-4983-89CF-C9AEC6FCC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51444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347220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0BC2A9-651C-4006-A940-AC96D520F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7B03EE-5E29-4975-B38A-B8B1DFD059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514440" y="202680"/>
            <a:ext cx="5153040" cy="9892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828FF7-542F-4EE9-8872-D17E916153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51444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347220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51444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E93D3-1B61-4AD6-B649-A455B69E0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514440" y="2437920"/>
            <a:ext cx="577224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08D42-BDA9-458E-9C48-E31A1BABD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51444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347220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347220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4F281-765D-4D40-A326-DAA2D9C2D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51444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347220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514440" y="4985280"/>
            <a:ext cx="577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C3BDB-FDDC-4A99-A9AF-9E405AF89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514440" y="2437920"/>
            <a:ext cx="577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514440" y="4985280"/>
            <a:ext cx="577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4DBE09-68E8-4B62-AEA7-FF89EDF050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51444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347220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51444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347220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0CA072-BF31-4304-A2A9-5195960C9B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514440" y="243792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2466000" y="243792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4417560" y="243792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514440" y="498528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2466000" y="498528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4417560" y="498528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674D2F-E766-4847-B2A9-21368025C1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514440" y="2437920"/>
            <a:ext cx="57722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96DC1-98F5-42EA-AA93-51342A2BB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51444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347220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16388-8E86-4574-A2D7-76D7D35C1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F3776-EF80-4542-AB03-580D88050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14440" y="202680"/>
            <a:ext cx="5153040" cy="9892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F2AE8-395F-4E19-A39F-9D5632989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51444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347220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51444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0EC43-B2EF-48BC-9D9F-1429FEC4B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51444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347220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347220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C865C-4FD5-4168-B70D-742D9075C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51444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347220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514440" y="4985280"/>
            <a:ext cx="577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D74BF-CBD0-4EDF-9177-33F3F67D42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5494680" y="587880"/>
            <a:ext cx="1549440" cy="156384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514440" y="2437920"/>
            <a:ext cx="5772240" cy="487692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98400" indent="-268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74240" indent="-214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04080" indent="-214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933920" indent="-214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933920" indent="-214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933920" indent="-214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028880" y="8331120"/>
            <a:ext cx="1428480" cy="60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2666520" y="8331120"/>
            <a:ext cx="2171880" cy="609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5038200" y="8331120"/>
            <a:ext cx="1428840" cy="60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814CA-B9B3-421A-A0BF-B99C645058E7}"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5559120" y="644040"/>
            <a:ext cx="1554120" cy="15732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5574240" y="714600"/>
            <a:ext cx="1366920" cy="117792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6480" y="7386480"/>
            <a:ext cx="1337760" cy="1661400"/>
            <a:chOff x="6480" y="7386480"/>
            <a:chExt cx="1337760" cy="1661400"/>
          </a:xfrm>
        </p:grpSpPr>
        <p:sp>
          <p:nvSpPr>
            <p:cNvPr id="9" name=""/>
            <p:cNvSpPr/>
            <p:nvPr/>
          </p:nvSpPr>
          <p:spPr>
            <a:xfrm>
              <a:off x="28800" y="7418160"/>
              <a:ext cx="1296360" cy="137376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217160" y="7581240"/>
              <a:ext cx="84240" cy="27252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4120" y="7987320"/>
              <a:ext cx="942840" cy="8679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154080" y="8059320"/>
              <a:ext cx="624960" cy="79128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577800" y="7475040"/>
              <a:ext cx="160560" cy="25632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763560" y="8811000"/>
              <a:ext cx="90360" cy="23688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600480" y="7634160"/>
              <a:ext cx="229680" cy="81072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795600" y="7598160"/>
              <a:ext cx="433080" cy="3679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413280" y="7815960"/>
              <a:ext cx="185400" cy="14184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6480" y="7386480"/>
              <a:ext cx="1337760" cy="1650600"/>
              <a:chOff x="6480" y="7386480"/>
              <a:chExt cx="1337760" cy="1650600"/>
            </a:xfrm>
          </p:grpSpPr>
          <p:grpSp>
            <p:nvGrpSpPr>
              <p:cNvPr id="19" name=""/>
              <p:cNvGrpSpPr/>
              <p:nvPr/>
            </p:nvGrpSpPr>
            <p:grpSpPr>
              <a:xfrm>
                <a:off x="594360" y="7538400"/>
                <a:ext cx="651960" cy="1498680"/>
                <a:chOff x="594360" y="7538400"/>
                <a:chExt cx="651960" cy="1498680"/>
              </a:xfrm>
            </p:grpSpPr>
            <p:sp>
              <p:nvSpPr>
                <p:cNvPr id="20" name=""/>
                <p:cNvSpPr/>
                <p:nvPr/>
              </p:nvSpPr>
              <p:spPr>
                <a:xfrm>
                  <a:off x="594360" y="7591320"/>
                  <a:ext cx="186840" cy="18360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757440" y="8755560"/>
                  <a:ext cx="136800" cy="2815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195200" y="7538400"/>
                  <a:ext cx="51120" cy="24732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90720" y="7898400"/>
                <a:ext cx="708120" cy="52920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309960" y="8224560"/>
                <a:ext cx="290160" cy="3132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672840" y="7788600"/>
                <a:ext cx="127080" cy="50328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6480" y="7386480"/>
                <a:ext cx="1337760" cy="1434600"/>
                <a:chOff x="6480" y="7386480"/>
                <a:chExt cx="1337760" cy="1434600"/>
              </a:xfrm>
            </p:grpSpPr>
            <p:sp>
              <p:nvSpPr>
                <p:cNvPr id="27" name=""/>
                <p:cNvSpPr/>
                <p:nvPr/>
              </p:nvSpPr>
              <p:spPr>
                <a:xfrm>
                  <a:off x="796680" y="8567280"/>
                  <a:ext cx="89280" cy="18360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480" y="7889760"/>
                  <a:ext cx="1002240" cy="9313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26360" y="7979040"/>
                  <a:ext cx="95040" cy="3531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534960" y="7386480"/>
                  <a:ext cx="383040" cy="125676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688320" y="7724520"/>
                  <a:ext cx="114120" cy="5335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390600" y="7682400"/>
                  <a:ext cx="231840" cy="28584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783720" y="7488000"/>
                  <a:ext cx="560520" cy="44820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853920" y="7631640"/>
                  <a:ext cx="291240" cy="18216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6509880" y="2820960"/>
            <a:ext cx="288720" cy="5744880"/>
            <a:chOff x="6509880" y="2820960"/>
            <a:chExt cx="288720" cy="5744880"/>
          </a:xfrm>
        </p:grpSpPr>
        <p:sp>
          <p:nvSpPr>
            <p:cNvPr id="36" name=""/>
            <p:cNvSpPr/>
            <p:nvPr/>
          </p:nvSpPr>
          <p:spPr>
            <a:xfrm flipH="1">
              <a:off x="6509520" y="5545080"/>
              <a:ext cx="243720" cy="30207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6554520" y="2820960"/>
              <a:ext cx="243720" cy="345672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5167800" y="108000"/>
            <a:ext cx="2243520" cy="2649960"/>
            <a:chOff x="5167800" y="108000"/>
            <a:chExt cx="2243520" cy="2649960"/>
          </a:xfrm>
        </p:grpSpPr>
        <p:grpSp>
          <p:nvGrpSpPr>
            <p:cNvPr id="39" name=""/>
            <p:cNvGrpSpPr/>
            <p:nvPr/>
          </p:nvGrpSpPr>
          <p:grpSpPr>
            <a:xfrm>
              <a:off x="5167800" y="108000"/>
              <a:ext cx="2243520" cy="2649960"/>
              <a:chOff x="5167800" y="108000"/>
              <a:chExt cx="2243520" cy="2649960"/>
            </a:xfrm>
          </p:grpSpPr>
          <p:sp>
            <p:nvSpPr>
              <p:cNvPr id="40" name=""/>
              <p:cNvSpPr/>
              <p:nvPr/>
            </p:nvSpPr>
            <p:spPr>
              <a:xfrm rot="18427200">
                <a:off x="6437160" y="2430360"/>
                <a:ext cx="131400" cy="34272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5167800" y="108000"/>
                <a:ext cx="2243520" cy="2395440"/>
                <a:chOff x="5167800" y="108000"/>
                <a:chExt cx="2243520" cy="2395440"/>
              </a:xfrm>
            </p:grpSpPr>
            <p:sp>
              <p:nvSpPr>
                <p:cNvPr id="42" name=""/>
                <p:cNvSpPr/>
                <p:nvPr/>
              </p:nvSpPr>
              <p:spPr>
                <a:xfrm rot="18427200">
                  <a:off x="5842440" y="207360"/>
                  <a:ext cx="323640" cy="14904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5886720" y="903240"/>
                  <a:ext cx="569160" cy="52128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5551560" y="798480"/>
                  <a:ext cx="1068120" cy="10692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5487840" y="581040"/>
                  <a:ext cx="1603440" cy="160020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6229440" y="1952640"/>
                  <a:ext cx="357120" cy="1450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6171480" y="1770480"/>
                  <a:ext cx="383040" cy="17136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5852520" y="511560"/>
                  <a:ext cx="382680" cy="17496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5809680" y="362880"/>
                  <a:ext cx="378360" cy="16416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5798880" y="177480"/>
              <a:ext cx="50040" cy="203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5840" y="17640"/>
            <a:ext cx="6672240" cy="903888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028520" y="2014200"/>
            <a:ext cx="4800600" cy="303228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514080" y="8331120"/>
            <a:ext cx="1428840" cy="60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2343240" y="8331120"/>
            <a:ext cx="2171520" cy="609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4915080" y="8331120"/>
            <a:ext cx="1428480" cy="60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0CA12-49FF-4030-9000-35F22D9482FA}"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46160" y="312840"/>
            <a:ext cx="2841480" cy="2371320"/>
            <a:chOff x="146160" y="312840"/>
            <a:chExt cx="2841480" cy="2371320"/>
          </a:xfrm>
        </p:grpSpPr>
        <p:sp>
          <p:nvSpPr>
            <p:cNvPr id="93" name=""/>
            <p:cNvSpPr/>
            <p:nvPr/>
          </p:nvSpPr>
          <p:spPr>
            <a:xfrm>
              <a:off x="210600" y="374040"/>
              <a:ext cx="2679120" cy="215280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97280" y="551880"/>
              <a:ext cx="2671920" cy="21322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64120" y="727560"/>
              <a:ext cx="1771920" cy="19454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46160" y="312840"/>
              <a:ext cx="2841480" cy="2288520"/>
              <a:chOff x="146160" y="312840"/>
              <a:chExt cx="2841480" cy="2288520"/>
            </a:xfrm>
          </p:grpSpPr>
          <p:sp>
            <p:nvSpPr>
              <p:cNvPr id="97" name=""/>
              <p:cNvSpPr/>
              <p:nvPr/>
            </p:nvSpPr>
            <p:spPr>
              <a:xfrm>
                <a:off x="2387160" y="1976760"/>
                <a:ext cx="252360" cy="45252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46160" y="312840"/>
                <a:ext cx="2841480" cy="22885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85560" y="333720"/>
                <a:ext cx="2007720" cy="129960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86720" y="530640"/>
                <a:ext cx="270000" cy="867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007280" y="1134000"/>
                <a:ext cx="822600" cy="7704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5684400" y="5833440"/>
            <a:ext cx="1062720" cy="1393920"/>
            <a:chOff x="5684400" y="5833440"/>
            <a:chExt cx="1062720" cy="1393920"/>
          </a:xfrm>
        </p:grpSpPr>
        <p:sp>
          <p:nvSpPr>
            <p:cNvPr id="103" name=""/>
            <p:cNvSpPr/>
            <p:nvPr/>
          </p:nvSpPr>
          <p:spPr>
            <a:xfrm rot="7320000">
              <a:off x="5553000" y="6349680"/>
              <a:ext cx="1332360" cy="3488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5535360" y="6319080"/>
              <a:ext cx="1328040" cy="3452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5759640" y="6286680"/>
              <a:ext cx="881280" cy="31536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5684400" y="5833440"/>
              <a:ext cx="1062720" cy="1393920"/>
              <a:chOff x="5684400" y="5833440"/>
              <a:chExt cx="1062720" cy="1393920"/>
            </a:xfrm>
          </p:grpSpPr>
          <p:sp>
            <p:nvSpPr>
              <p:cNvPr id="107" name=""/>
              <p:cNvSpPr/>
              <p:nvPr/>
            </p:nvSpPr>
            <p:spPr>
              <a:xfrm rot="7320000">
                <a:off x="5910120" y="6779520"/>
                <a:ext cx="125280" cy="7236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8" name=""/>
              <p:cNvSpPr/>
              <p:nvPr/>
            </p:nvSpPr>
            <p:spPr>
              <a:xfrm rot="7320000">
                <a:off x="5509440" y="6345000"/>
                <a:ext cx="1412280" cy="3704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5808240" y="6424200"/>
                <a:ext cx="999720" cy="209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6357240" y="6135840"/>
                <a:ext cx="132840" cy="14040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6026040" y="6396480"/>
                <a:ext cx="408600" cy="1234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676440" y="6738840"/>
            <a:ext cx="5105160" cy="971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057480" y="2573280"/>
            <a:ext cx="666720" cy="50796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99"/>
            </a:gs>
          </a:gsLst>
          <a:lin ang="5400000"/>
        </a:gradFill>
      </p:bgPr>
    </p:bg>
    <p:spTree>
      <p:nvGrpSpPr>
        <p:cNvPr id="1" name=""/>
        <p:cNvGrpSpPr/>
        <p:nvPr/>
      </p:nvGrpSpPr>
      <p:grpSpPr>
        <a:xfrm>
          <a:off x="0" y="0"/>
          <a:ext cx="0" cy="0"/>
          <a:chOff x="0" y="0"/>
          <a:chExt cx="0" cy="0"/>
        </a:xfrm>
      </p:grpSpPr>
      <p:sp>
        <p:nvSpPr>
          <p:cNvPr id="150" name=""/>
          <p:cNvSpPr txBox="1"/>
          <p:nvPr/>
        </p:nvSpPr>
        <p:spPr>
          <a:xfrm>
            <a:off x="674640" y="3227400"/>
            <a:ext cx="5724720" cy="178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ff6600"/>
                </a:solidFill>
                <a:effectLst>
                  <a:outerShdw dist="153753" dir="2700000" blurRad="0" rotWithShape="0">
                    <a:srgbClr val="c0c0c0">
                      <a:alpha val="80000"/>
                    </a:srgbClr>
                  </a:outerShdw>
                </a:effectLst>
                <a:latin typeface="Arial Black"/>
              </a:rPr>
              <a:t>Analiza performarii</a:t>
            </a:r>
            <a:endParaRPr b="0" lang="en-US" sz="1800" spc="1" strike="noStrike">
              <a:ln w="12600">
                <a:solidFill>
                  <a:srgbClr val="eaeaea"/>
                </a:solidFill>
                <a:miter/>
              </a:ln>
              <a:solidFill>
                <a:srgbClr val="ff6600"/>
              </a:soli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99"/>
            </a:gs>
          </a:gsLst>
          <a:lin ang="5400000"/>
        </a:gradFill>
      </p:bgPr>
    </p:bg>
    <p:spTree>
      <p:nvGrpSpPr>
        <p:cNvPr id="1" name=""/>
        <p:cNvGrpSpPr/>
        <p:nvPr/>
      </p:nvGrpSpPr>
      <p:grpSpPr>
        <a:xfrm>
          <a:off x="0" y="0"/>
          <a:ext cx="0" cy="0"/>
          <a:chOff x="0" y="0"/>
          <a:chExt cx="0" cy="0"/>
        </a:xfrm>
      </p:grpSpPr>
      <p:sp>
        <p:nvSpPr>
          <p:cNvPr id="164" name=""/>
          <p:cNvSpPr/>
          <p:nvPr/>
        </p:nvSpPr>
        <p:spPr>
          <a:xfrm>
            <a:off x="260280" y="250920"/>
            <a:ext cx="6264360" cy="773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 </a:t>
            </a:r>
            <a:r>
              <a:rPr b="1" lang="es-ES" sz="1800" spc="-1" strike="noStrike">
                <a:solidFill>
                  <a:srgbClr val="000000"/>
                </a:solidFill>
                <a:latin typeface="Comic Sans MS"/>
              </a:rPr>
              <a:t>Analiza performări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prin raportare la obiectivele de evalu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ro-RO" sz="1800" spc="-1" strike="noStrike">
                <a:solidFill>
                  <a:srgbClr val="000000"/>
                </a:solidFill>
                <a:latin typeface="Comic Sans MS"/>
              </a:rPr>
              <a:t>Î</a:t>
            </a:r>
            <a:r>
              <a:rPr b="1" lang="pt-BR" sz="1800" spc="-1" strike="noStrike">
                <a:solidFill>
                  <a:srgbClr val="000000"/>
                </a:solidFill>
                <a:latin typeface="Comic Sans MS"/>
              </a:rPr>
              <a:t>n urma evaluării testelor de control s-au constatat următoarele:</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600" spc="-1" strike="noStrike">
                <a:solidFill>
                  <a:srgbClr val="000000"/>
                </a:solidFill>
                <a:latin typeface="Comic Sans MS"/>
              </a:rPr>
              <a:t>unii elevi nu au suficiente cunoştinţe de lexic, fac confuzii între cuvinte asemănătoare/paronime şi nu ştiu, în număr important, cum se formează familiile lexicale;</a:t>
            </a: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a:t>
            </a:r>
            <a:r>
              <a:rPr b="0" lang="pt-BR" sz="1600" spc="-1" strike="noStrike">
                <a:solidFill>
                  <a:srgbClr val="000000"/>
                </a:solidFill>
                <a:latin typeface="Comic Sans MS"/>
              </a:rPr>
              <a:t>unii elevi manifestă nesiguranţă în selectarea dintr-un vocabular de referinţă, a cuvintelor care fac parte dintr-o anumită familie lexicală;</a:t>
            </a: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a:t>
            </a:r>
            <a:r>
              <a:rPr b="0" lang="pt-BR" sz="1600" spc="-1" strike="noStrike">
                <a:solidFill>
                  <a:srgbClr val="000000"/>
                </a:solidFill>
                <a:latin typeface="Comic Sans MS"/>
              </a:rPr>
              <a:t>unii elevi nu respectă, din necunoaştere, neatenţie sau neglijenţă regulile ortografice ale limbii franceze (scriu fără semne diacritice);</a:t>
            </a: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a:t>
            </a:r>
            <a:r>
              <a:rPr b="0" lang="pt-BR" sz="1600" spc="-1" strike="noStrike">
                <a:solidFill>
                  <a:srgbClr val="000000"/>
                </a:solidFill>
                <a:latin typeface="Comic Sans MS"/>
              </a:rPr>
              <a:t>există elevi cu un bagaj redus de cuvinte, care întâmpină greutăţi atunci când li se solicită să asocieze o serie de termeni între care există, totuşi, o conexiune logică şi semantică;</a:t>
            </a: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a:t>
            </a:r>
            <a:r>
              <a:rPr b="0" lang="pt-BR" sz="1600" spc="-1" strike="noStrike">
                <a:solidFill>
                  <a:srgbClr val="000000"/>
                </a:solidFill>
                <a:latin typeface="Comic Sans MS"/>
              </a:rPr>
              <a:t>există mulţi elevi care nu cunosc elementele de construcţie a comunicării şi nici mecanismul de funcţionare a limbii (nu fac acordul între subiect şi predicat, între substantiv şi adjectiv, nu folosesc corect modurile şi timpurile verbelor;</a:t>
            </a: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a:t>
            </a:r>
            <a:r>
              <a:rPr b="0" lang="pt-BR" sz="1600" spc="-1" strike="noStrike">
                <a:solidFill>
                  <a:srgbClr val="000000"/>
                </a:solidFill>
                <a:latin typeface="Comic Sans MS"/>
              </a:rPr>
              <a:t>mulţi elevi au o exprimare greoaie şi încâlcită, înţesată de şabloane, locuri comune, folosind fraze foarte scurte şi stereotipe;</a:t>
            </a: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a:t>
            </a:r>
            <a:r>
              <a:rPr b="0" lang="pt-BR" sz="1600" spc="-1" strike="noStrike">
                <a:solidFill>
                  <a:srgbClr val="000000"/>
                </a:solidFill>
                <a:latin typeface="Comic Sans MS"/>
              </a:rPr>
              <a:t>nu dovedesc creativitate şi originalitate şi manifestă reţinere atunci când trebuie să exprime un punct de vedere personal, deşi aceasta este o cerinţă expresă.</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165" name=""/>
          <p:cNvSpPr/>
          <p:nvPr/>
        </p:nvSpPr>
        <p:spPr>
          <a:xfrm>
            <a:off x="333360" y="324000"/>
            <a:ext cx="6120000" cy="730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Concluzii privitoare la testul de evalu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aplicare şi bare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Observând rezultatele testului de evaluare, se poate spune că obiectivele de evaluare au fost atinse în sensul că au permis măsurarea exactă a gradului de însuşire a cunoştinţelor lexicale şi gramaticale, a capacităţii de selectare şi utilizare a vocabularului de referinţă, ca şi a gradului de achiziţionare a elementelor de construcţie a comunicării şi a mecanismelor de funcţionare a limbi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Itemii au fost aleşi într-o ordine crescătoare din punctul de vedere al dificultăţii. Astfel, itemii 1 (obiectiv cu alegere duală) ,  2 si 5 (obiectiv, cu alegere multiplă) precum si 6(obiectiv de asociere) au avut un grad mic de dificultate, ceea ce a determinat răspunsuri corecte din partea elevilor, într-o proporţie importantă.Itemii 3 (de tip semiobiectiv, cu răspuns scurt) si 4 (de tip semiobiectiv de completare) au fost de o dificultate medie, iar itemii 7 si 8 ( subiectivi de tip rezolvare de probleme si eseu) au fost de o dificultate mai mare ceea ce a determinat notarea lor cu un punctaj sporit, niciun elev neobtinand la acesti itemi punctajul maxim.Aici s-a verificat atât lexicul, cât şi noţiunile de gramatică necesare exprimării corecte. De asemenea, la acesti itemi baremul are alocate puncte şi pentru creativitate, originalitate, coerenta, respectarea unui plan bine structurat. Toate acestea sunt greu de îndeplinit în condiţiile în care mai există încă multe deficienţe de remedi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166" name=""/>
          <p:cNvSpPr/>
          <p:nvPr/>
        </p:nvSpPr>
        <p:spPr>
          <a:xfrm>
            <a:off x="260280" y="468360"/>
            <a:ext cx="6193080" cy="740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În cadrul testului s-au acordat punctaje favorizante obţinerii notei minime de promovare (primii 3 itemi (+5) cu câte 1 punct fiecare, la care se adaugă punctul din oficiu), iar punctajele de la itemii semiobiectivi şi de la cel subiectiv aveau menirea de a departaja corespunzător pe elevii care au cunoştinţe de limbă şi competenţe medii sau superioa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Faptul că un singur elev are nota sub limita promovabilităţii ,arată că testul nu a fost de o mare dificultate şi nu a pus probleme. De asemenea, faptul că media clasei şi mediana depasesc nota 7 arată că elevii au cunoştinţe medii, că au resurse intelectuale şi că există posibilitatea ameliorării  situaţiei lor la învăţătură, din punctul de vedere al limbii francez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167" name=""/>
          <p:cNvSpPr/>
          <p:nvPr/>
        </p:nvSpPr>
        <p:spPr>
          <a:xfrm>
            <a:off x="404640" y="324000"/>
            <a:ext cx="5832720" cy="8192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 </a:t>
            </a:r>
            <a:r>
              <a:rPr b="0" lang="it-IT" sz="1800" spc="-1" strike="noStrike">
                <a:solidFill>
                  <a:srgbClr val="000000"/>
                </a:solidFill>
                <a:latin typeface="Comic Sans MS"/>
              </a:rPr>
              <a:t>Rezultatele la testul de evaluare au arătat şi necesitatea optimizării baremului de notare şi a metodologiei de aplicare a acestor instrumente evaluat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 </a:t>
            </a:r>
            <a:r>
              <a:rPr b="0" lang="it-IT" sz="1800" spc="-1" strike="noStrike">
                <a:solidFill>
                  <a:srgbClr val="000000"/>
                </a:solidFill>
                <a:latin typeface="Comic Sans MS"/>
              </a:rPr>
              <a:t>Din acest punct de vedere, concluziile sunt următoarele:</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este necesară o aplicare sistematică a unor teste, chiar anunţată, în prealabil, pentru obişnuirea elevilor cu această modalitate de evaluare şi pentru motivarea suplimentară a lor întru studiu;</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se impune algoritmizarea atentă a modurilor de realizare a eseurilor;</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este preferabilă alegerea cu prioritate a eseului structurat, ale cărui cerinţe formulate în test, pot orienta mai bine elevul în tratarea problemei;</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este necesară o mai bună distribuire a punctelor acordate, în funcţie de gradul de dificultate (exerciţii foarte uşoare, uşoare, medii, grele şi foarte grele) ,punctele cele mai multe să fie acordate itemilor de dificultate medie,  nu numai pentru a obişnui elevii cu această modalitate de lucru şi de notare, ci şi pentru a-i motiva şi încuraja pe cei care au cunoştinţe medii, în contextul în care la noi în ţară învăţământul este de masă;</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este necesară acordarea punctajelor parţiale pentru a aprecia şi munca elevilor care au cunoştinţe mai modeste şi pentru a-i motiva şi atrage spre şcoală şi spre studiu.</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9933"/>
            </a:gs>
          </a:gsLst>
          <a:lin ang="5400000"/>
        </a:gradFill>
      </p:bgPr>
    </p:bg>
    <p:spTree>
      <p:nvGrpSpPr>
        <p:cNvPr id="1" name=""/>
        <p:cNvGrpSpPr/>
        <p:nvPr/>
      </p:nvGrpSpPr>
      <p:grpSpPr>
        <a:xfrm>
          <a:off x="0" y="0"/>
          <a:ext cx="0" cy="0"/>
          <a:chOff x="0" y="0"/>
          <a:chExt cx="0" cy="0"/>
        </a:xfrm>
      </p:grpSpPr>
      <p:sp>
        <p:nvSpPr>
          <p:cNvPr id="151" name=""/>
          <p:cNvSpPr txBox="1"/>
          <p:nvPr/>
        </p:nvSpPr>
        <p:spPr>
          <a:xfrm>
            <a:off x="907920" y="3492360"/>
            <a:ext cx="5185080" cy="19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rPr>
              <a:t>Raportul de analiza</a:t>
            </a:r>
            <a:endPar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rPr>
              <a:t>privind</a:t>
            </a:r>
            <a:endPar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rPr>
              <a:t>administrarea instrumentului </a:t>
            </a:r>
            <a:endPar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rPr>
              <a:t>de evaluare</a:t>
            </a:r>
            <a:endPar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152" name=""/>
          <p:cNvSpPr/>
          <p:nvPr/>
        </p:nvSpPr>
        <p:spPr>
          <a:xfrm>
            <a:off x="620640" y="468360"/>
            <a:ext cx="5545080" cy="750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00"/>
                </a:solidFill>
                <a:latin typeface="Comic Sans MS"/>
              </a:rPr>
              <a:t>Clasa:</a:t>
            </a:r>
            <a:r>
              <a:rPr b="1" lang="fr-FR" sz="1800" spc="-1" strike="noStrike">
                <a:solidFill>
                  <a:srgbClr val="000000"/>
                </a:solidFill>
                <a:latin typeface="Comic Sans MS"/>
              </a:rPr>
              <a:t>  </a:t>
            </a:r>
            <a:r>
              <a:rPr b="1" lang="fr-FR" sz="1800" spc="-1" strike="noStrike">
                <a:solidFill>
                  <a:srgbClr val="ff9900"/>
                </a:solidFill>
                <a:latin typeface="Comic Sans MS"/>
              </a:rPr>
              <a:t>a VII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00"/>
                </a:solidFill>
                <a:latin typeface="Comic Sans MS"/>
              </a:rPr>
              <a:t>Disciplina :</a:t>
            </a:r>
            <a:r>
              <a:rPr b="1" lang="fr-FR" sz="1800" spc="-1" strike="noStrike">
                <a:solidFill>
                  <a:srgbClr val="000000"/>
                </a:solidFill>
                <a:latin typeface="Comic Sans MS"/>
              </a:rPr>
              <a:t> </a:t>
            </a:r>
            <a:r>
              <a:rPr b="1" lang="fr-FR" sz="1800" spc="-1" strike="noStrike">
                <a:solidFill>
                  <a:srgbClr val="ff9900"/>
                </a:solidFill>
                <a:latin typeface="Comic Sans MS"/>
              </a:rPr>
              <a:t>Limba Francez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00"/>
                </a:solidFill>
                <a:latin typeface="Comic Sans MS"/>
              </a:rPr>
              <a:t>Aria curriculara :</a:t>
            </a:r>
            <a:r>
              <a:rPr b="1" lang="fr-FR" sz="1800" spc="-1" strike="noStrike">
                <a:solidFill>
                  <a:srgbClr val="000000"/>
                </a:solidFill>
                <a:latin typeface="Comic Sans MS"/>
              </a:rPr>
              <a:t> </a:t>
            </a:r>
            <a:r>
              <a:rPr b="1" lang="fr-FR" sz="1800" spc="-1" strike="noStrike">
                <a:solidFill>
                  <a:srgbClr val="ff9900"/>
                </a:solidFill>
                <a:latin typeface="Comic Sans MS"/>
              </a:rPr>
              <a:t>Limba si comunic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00"/>
                </a:solidFill>
                <a:latin typeface="Comic Sans MS"/>
              </a:rPr>
              <a:t>Unitatea de invatare :</a:t>
            </a:r>
            <a:r>
              <a:rPr b="1" lang="fr-FR" sz="1800" spc="-1" strike="noStrike">
                <a:solidFill>
                  <a:srgbClr val="000000"/>
                </a:solidFill>
                <a:latin typeface="Comic Sans MS"/>
              </a:rPr>
              <a:t> </a:t>
            </a:r>
            <a:r>
              <a:rPr b="1" lang="fr-FR" sz="1800" spc="-1" strike="noStrike">
                <a:solidFill>
                  <a:srgbClr val="ff9900"/>
                </a:solidFill>
                <a:latin typeface="Comic Sans MS"/>
              </a:rPr>
              <a:t>« Alerte au Louv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00"/>
                </a:solidFill>
                <a:latin typeface="Comic Sans MS"/>
              </a:rPr>
              <a:t>Scopul probei :</a:t>
            </a:r>
            <a:r>
              <a:rPr b="1" lang="fr-FR" sz="1800" spc="-1" strike="noStrike">
                <a:solidFill>
                  <a:srgbClr val="000000"/>
                </a:solidFill>
                <a:latin typeface="Comic Sans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Evaluarea formativa si sumativa a elevil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00"/>
                </a:solidFill>
                <a:latin typeface="Comic Sans MS"/>
              </a:rPr>
              <a:t>Obiective de evaluare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sa desprinda informatiile esentiale dintr-un text scris intr-un limbaj standard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sa redacteze un text : realizarea portretului unui personaj din anturajul sau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sa recunoasca si sa utilizeze corect si constient subjonctivul prezent al verbelor regulate si auxiliare ;sa aplice corect in scris marcatorii categoriilor gramaticale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sa compare contextul de folosire a subjonctivului cu situatii de folosire a altor timpuri verbale;</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sa utilizeze corect diferite grade de comparatie ale adverbelor neregulate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sa redea corect un text din limba romana in limba franceza</a:t>
            </a:r>
            <a:r>
              <a:rPr b="1" lang="fr-FR" sz="1800" spc="-1" strike="noStrike">
                <a:solidFill>
                  <a:srgbClr val="000000"/>
                </a:solidFill>
                <a:latin typeface="Comic Sans MS"/>
              </a:rPr>
              <a:t>, </a:t>
            </a:r>
            <a:r>
              <a:rPr b="0" lang="fr-FR" sz="1800" spc="-1" strike="noStrike">
                <a:solidFill>
                  <a:srgbClr val="000000"/>
                </a:solidFill>
                <a:latin typeface="Comic Sans MS"/>
              </a:rPr>
              <a:t>aplicand cunostintele lexicale si gramaticale dobandi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  </a:t>
            </a:r>
            <a:r>
              <a:rPr b="1" lang="nb-NO" sz="1800" spc="-1" strike="noStrike">
                <a:solidFill>
                  <a:srgbClr val="008000"/>
                </a:solidFill>
                <a:latin typeface="Comic Sans MS"/>
              </a:rPr>
              <a:t>Numarul de elevi evaluati :        </a:t>
            </a:r>
            <a:r>
              <a:rPr b="0" lang="nb-NO" sz="1800" spc="-1" strike="noStrike">
                <a:solidFill>
                  <a:srgbClr val="008000"/>
                </a:solidFill>
                <a:latin typeface="Comic Sans MS"/>
              </a:rPr>
              <a:t>1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8000"/>
                </a:solidFill>
                <a:latin typeface="Comic Sans MS"/>
              </a:rPr>
              <a:t>  </a:t>
            </a:r>
            <a:r>
              <a:rPr b="1" lang="nb-NO" sz="1800" spc="-1" strike="noStrike">
                <a:solidFill>
                  <a:srgbClr val="008000"/>
                </a:solidFill>
                <a:latin typeface="Comic Sans MS"/>
              </a:rPr>
              <a:t>Media rezultatelor obtinute :       </a:t>
            </a:r>
            <a:r>
              <a:rPr b="0" lang="nb-NO" sz="1800" spc="-1" strike="noStrike">
                <a:solidFill>
                  <a:srgbClr val="008000"/>
                </a:solidFill>
                <a:latin typeface="Comic Sans MS"/>
              </a:rPr>
              <a:t>6,3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8000"/>
                </a:solidFill>
                <a:latin typeface="Comic Sans MS"/>
              </a:rPr>
              <a:t>  </a:t>
            </a:r>
            <a:r>
              <a:rPr b="1" lang="nb-NO" sz="1800" spc="-1" strike="noStrike">
                <a:solidFill>
                  <a:srgbClr val="008000"/>
                </a:solidFill>
                <a:latin typeface="Comic Sans MS"/>
              </a:rPr>
              <a:t>Mediana:                              </a:t>
            </a:r>
            <a:r>
              <a:rPr b="0" lang="nb-NO" sz="1800" spc="-1" strike="noStrike">
                <a:solidFill>
                  <a:srgbClr val="008000"/>
                </a:solidFill>
                <a:latin typeface="Comic Sans MS"/>
              </a:rPr>
              <a:t>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219240" y="2759040"/>
          <a:ext cx="6421320" cy="4621320"/>
        </p:xfrm>
        <a:graphic>
          <a:graphicData uri="http://schemas.openxmlformats.org/drawingml/2006/table">
            <a:tbl>
              <a:tblPr/>
              <a:tblGrid>
                <a:gridCol w="982440"/>
                <a:gridCol w="1143000"/>
                <a:gridCol w="1084320"/>
                <a:gridCol w="1071720"/>
                <a:gridCol w="1069920"/>
                <a:gridCol w="1069920"/>
              </a:tblGrid>
              <a:tr h="58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바탕"/>
                          <a:ea typeface="바탕"/>
                        </a:rPr>
                        <a:t>    </a:t>
                      </a:r>
                      <a:r>
                        <a:rPr b="1" lang="nb-NO" sz="1200" spc="-1" strike="noStrike">
                          <a:solidFill>
                            <a:srgbClr val="000000"/>
                          </a:solidFill>
                          <a:latin typeface="바탕"/>
                          <a:ea typeface="바탕"/>
                        </a:rPr>
                        <a:t>Itemii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바탕"/>
                          <a:ea typeface="바탕"/>
                        </a:rPr>
                        <a:t>   </a:t>
                      </a:r>
                      <a:r>
                        <a:rPr b="1" lang="nb-NO" sz="1200" spc="-1" strike="noStrike">
                          <a:solidFill>
                            <a:srgbClr val="000000"/>
                          </a:solidFill>
                          <a:latin typeface="바탕"/>
                          <a:ea typeface="바탕"/>
                        </a:rPr>
                        <a:t>probe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바탕"/>
                          <a:ea typeface="바탕"/>
                        </a:rPr>
                        <a:t>    </a:t>
                      </a:r>
                      <a:r>
                        <a:rPr b="1" lang="nb-NO" sz="1200" spc="-1" strike="noStrike">
                          <a:solidFill>
                            <a:srgbClr val="000000"/>
                          </a:solidFill>
                          <a:latin typeface="바탕"/>
                          <a:ea typeface="바탕"/>
                        </a:rPr>
                        <a:t>Punctaj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바탕"/>
                          <a:ea typeface="바탕"/>
                        </a:rPr>
                        <a:t>     </a:t>
                      </a:r>
                      <a:r>
                        <a:rPr b="1" lang="nb-NO" sz="1200" spc="-1" strike="noStrike">
                          <a:solidFill>
                            <a:srgbClr val="000000"/>
                          </a:solidFill>
                          <a:latin typeface="바탕"/>
                          <a:ea typeface="바탕"/>
                        </a:rPr>
                        <a:t>maxi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       </a:t>
                      </a:r>
                      <a:r>
                        <a:rPr b="1" lang="fr-FR" sz="1200" spc="-1" strike="noStrike">
                          <a:solidFill>
                            <a:srgbClr val="000000"/>
                          </a:solidFill>
                          <a:latin typeface="바탕"/>
                          <a:ea typeface="바탕"/>
                        </a:rPr>
                        <a:t>Categorii de rezultate obtinute la fiecare item/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                            </a:t>
                      </a:r>
                      <a:r>
                        <a:rPr b="1" lang="fr-FR" sz="1200" spc="-1" strike="noStrike">
                          <a:solidFill>
                            <a:srgbClr val="000000"/>
                          </a:solidFill>
                          <a:latin typeface="바탕"/>
                          <a:ea typeface="바탕"/>
                        </a:rPr>
                        <a:t>numarul de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25= 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26- 0,50=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6- 0,75=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76-1= 1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658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5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1- 1= 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66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50=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1- 1=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25=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26- 0,50=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6- 0,75=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76-1=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25=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26- 0,50=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6- 0,75=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76-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49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25=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26- 0,5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6- 0,75=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76-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66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50=1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1- 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1- 1,5= 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658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50= 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1-1=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1-1,5=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bl>
          </a:graphicData>
        </a:graphic>
      </p:graphicFrame>
      <p:sp>
        <p:nvSpPr>
          <p:cNvPr id="154" name=""/>
          <p:cNvSpPr/>
          <p:nvPr/>
        </p:nvSpPr>
        <p:spPr>
          <a:xfrm>
            <a:off x="1125360" y="1116000"/>
            <a:ext cx="4175280" cy="115236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Comic Sans MS"/>
              </a:rPr>
              <a:t>Rezultate obtinute / item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155" name=""/>
          <p:cNvSpPr/>
          <p:nvPr/>
        </p:nvSpPr>
        <p:spPr>
          <a:xfrm>
            <a:off x="136440" y="567360"/>
            <a:ext cx="6585120" cy="854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바탕"/>
                <a:ea typeface="바탕"/>
              </a:rPr>
              <a:t>Concluzii si recomandari de optimizar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바탕"/>
                <a:ea typeface="바탕"/>
              </a:rPr>
              <a:t>        </a:t>
            </a:r>
            <a:r>
              <a:rPr b="1" lang="es-ES" sz="1200" spc="-1" strike="noStrike">
                <a:solidFill>
                  <a:srgbClr val="000000"/>
                </a:solidFill>
                <a:latin typeface="바탕"/>
                <a:ea typeface="바탕"/>
              </a:rPr>
              <a:t>1.   Gradul de eficacitate al probei de evalua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바탕"/>
                <a:ea typeface="바탕"/>
              </a:rPr>
              <a:t>	</a:t>
            </a:r>
            <a:r>
              <a:rPr b="1" lang="es-ES" sz="1200" spc="-1" strike="noStrike">
                <a:solidFill>
                  <a:srgbClr val="000000"/>
                </a:solidFill>
                <a:latin typeface="바탕"/>
                <a:ea typeface="바탕"/>
              </a:rPr>
              <a:t>       </a:t>
            </a:r>
            <a:r>
              <a:rPr b="1" lang="fr-FR" sz="1200" spc="-1" strike="noStrike">
                <a:solidFill>
                  <a:srgbClr val="000000"/>
                </a:solidFill>
                <a:latin typeface="바탕"/>
                <a:ea typeface="바탕"/>
              </a:rPr>
              <a:t>Cele 6 obiective de evaluare au fost atinse de elevi astfel :</a:t>
            </a:r>
            <a:r>
              <a:rPr b="1" lang="fr-FR" sz="1200" spc="-1" strike="noStrike">
                <a:solidFill>
                  <a:srgbClr val="000000"/>
                </a:solidFill>
                <a:latin typeface="바탕"/>
                <a:ea typeface="바탕"/>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8000"/>
                </a:solidFill>
                <a:latin typeface="바탕"/>
                <a:ea typeface="바탕"/>
              </a:rPr>
              <a:t>	</a:t>
            </a:r>
            <a:r>
              <a:rPr b="1" lang="fr-FR" sz="1200" spc="-1" strike="noStrike">
                <a:solidFill>
                  <a:srgbClr val="008000"/>
                </a:solidFill>
                <a:latin typeface="바탕"/>
                <a:ea typeface="바탕"/>
              </a:rPr>
              <a:t>	</a:t>
            </a:r>
            <a:endParaRPr b="0" lang="en-US" sz="1200" spc="-1" strike="noStrike">
              <a:solidFill>
                <a:srgbClr val="000000"/>
              </a:solidFill>
              <a:latin typeface="Arial"/>
            </a:endParaRPr>
          </a:p>
        </p:txBody>
      </p:sp>
      <p:graphicFrame>
        <p:nvGraphicFramePr>
          <p:cNvPr id="156" name=""/>
          <p:cNvGraphicFramePr/>
          <p:nvPr/>
        </p:nvGraphicFramePr>
        <p:xfrm>
          <a:off x="136440" y="1476360"/>
          <a:ext cx="6515280" cy="6335280"/>
        </p:xfrm>
        <a:graphic>
          <a:graphicData uri="http://schemas.openxmlformats.org/drawingml/2006/table">
            <a:tbl>
              <a:tblPr/>
              <a:tblGrid>
                <a:gridCol w="2857680"/>
                <a:gridCol w="1942920"/>
                <a:gridCol w="1714680"/>
              </a:tblGrid>
              <a:tr h="66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8000"/>
                          </a:solidFill>
                          <a:latin typeface="바탕"/>
                          <a:ea typeface="바탕"/>
                        </a:rPr>
                        <a:t>Obiectivul de evalua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8000"/>
                          </a:solidFill>
                          <a:latin typeface="바탕"/>
                          <a:ea typeface="바탕"/>
                        </a:rPr>
                        <a:t>Nr. elevi care au atins obiectivul in proportie de 50-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8000"/>
                          </a:solidFill>
                          <a:latin typeface="바탕"/>
                          <a:ea typeface="바탕"/>
                        </a:rPr>
                        <a:t>Procent din numarul total de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a:t>
                      </a:r>
                      <a:r>
                        <a:rPr b="1" lang="fr-FR" sz="1200" spc="-1" strike="noStrike">
                          <a:solidFill>
                            <a:srgbClr val="000000"/>
                          </a:solidFill>
                          <a:latin typeface="바탕"/>
                          <a:ea typeface="바탕"/>
                        </a:rPr>
                        <a:t>.</a:t>
                      </a:r>
                      <a:r>
                        <a:rPr b="0" lang="fr-FR" sz="1200" spc="-1" strike="noStrike">
                          <a:solidFill>
                            <a:srgbClr val="000000"/>
                          </a:solidFill>
                          <a:latin typeface="바탕"/>
                          <a:ea typeface="바탕"/>
                        </a:rPr>
                        <a:t> Sa desprinda informatiile esentiale dintr-un text scris intr-un limbaj standard ( Itemi 1-2, C 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1 =   14 elev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2 =   12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77,77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66,66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2</a:t>
                      </a:r>
                      <a:r>
                        <a:rPr b="1" lang="fr-FR" sz="1200" spc="-1" strike="noStrike">
                          <a:solidFill>
                            <a:srgbClr val="000000"/>
                          </a:solidFill>
                          <a:latin typeface="바탕"/>
                          <a:ea typeface="바탕"/>
                        </a:rPr>
                        <a:t>. </a:t>
                      </a:r>
                      <a:r>
                        <a:rPr b="0" lang="fr-FR" sz="1200" spc="-1" strike="noStrike">
                          <a:solidFill>
                            <a:srgbClr val="000000"/>
                          </a:solidFill>
                          <a:latin typeface="바탕"/>
                          <a:ea typeface="바탕"/>
                        </a:rPr>
                        <a:t>Sa redacteze un text : realizarea portretului unui personaj din anturajul sau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 Item 8 ; C 6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8 =   12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66,66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1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3. Sa recunoasca si sa utilizeze corect si constient subjonctivul prezent al verbelor regulate si auxilia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   </a:t>
                      </a:r>
                      <a:r>
                        <a:rPr b="0" lang="en-US" sz="1200" spc="-1" strike="noStrike">
                          <a:solidFill>
                            <a:srgbClr val="000000"/>
                          </a:solidFill>
                          <a:latin typeface="바탕"/>
                          <a:ea typeface="바탕"/>
                        </a:rPr>
                        <a:t>Sa aplice corect in scris marcatorii categoriilor gramatical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바탕"/>
                          <a:ea typeface="바탕"/>
                        </a:rPr>
                        <a:t>( Item 5-6- 7 ; C 3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5 = 6 elev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6 = 11 elev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7 = 4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33,3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6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22,2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4.</a:t>
                      </a:r>
                      <a:r>
                        <a:rPr b="1" lang="fr-FR" sz="1200" spc="-1" strike="noStrike">
                          <a:solidFill>
                            <a:srgbClr val="000000"/>
                          </a:solidFill>
                          <a:latin typeface="바탕"/>
                          <a:ea typeface="바탕"/>
                        </a:rPr>
                        <a:t> </a:t>
                      </a:r>
                      <a:r>
                        <a:rPr b="0" lang="fr-FR" sz="1200" spc="-1" strike="noStrike">
                          <a:solidFill>
                            <a:srgbClr val="000000"/>
                          </a:solidFill>
                          <a:latin typeface="바탕"/>
                          <a:ea typeface="바탕"/>
                        </a:rPr>
                        <a:t>Sa compare contextul de folosire a subjonctivului cu situatii de folosire a altor timpuri verba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 Item 6 ; C 4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6 = 11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6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5</a:t>
                      </a:r>
                      <a:r>
                        <a:rPr b="1" lang="fr-FR" sz="1200" spc="-1" strike="noStrike">
                          <a:solidFill>
                            <a:srgbClr val="000000"/>
                          </a:solidFill>
                          <a:latin typeface="바탕"/>
                          <a:ea typeface="바탕"/>
                        </a:rPr>
                        <a:t>. </a:t>
                      </a:r>
                      <a:r>
                        <a:rPr b="0" lang="fr-FR" sz="1200" spc="-1" strike="noStrike">
                          <a:solidFill>
                            <a:srgbClr val="000000"/>
                          </a:solidFill>
                          <a:latin typeface="바탕"/>
                          <a:ea typeface="바탕"/>
                        </a:rPr>
                        <a:t>sa utilizeze corect diferite grade de comparatie ale adverbelor neregulat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 Item 6-7 ; C 4-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tem 6 = 11 elev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tem 7 = 4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61,1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22,22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4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6.</a:t>
                      </a:r>
                      <a:r>
                        <a:rPr b="1" lang="fr-FR" sz="1200" spc="-1" strike="noStrike">
                          <a:solidFill>
                            <a:srgbClr val="000000"/>
                          </a:solidFill>
                          <a:latin typeface="바탕"/>
                          <a:ea typeface="바탕"/>
                        </a:rPr>
                        <a:t> </a:t>
                      </a:r>
                      <a:r>
                        <a:rPr b="0" lang="fr-FR" sz="1200" spc="-1" strike="noStrike">
                          <a:solidFill>
                            <a:srgbClr val="000000"/>
                          </a:solidFill>
                          <a:latin typeface="바탕"/>
                          <a:ea typeface="바탕"/>
                        </a:rPr>
                        <a:t>sa redea corect un text din limba romana in limba franceza</a:t>
                      </a:r>
                      <a:r>
                        <a:rPr b="1" lang="fr-FR" sz="1200" spc="-1" strike="noStrike">
                          <a:solidFill>
                            <a:srgbClr val="000000"/>
                          </a:solidFill>
                          <a:latin typeface="바탕"/>
                          <a:ea typeface="바탕"/>
                        </a:rPr>
                        <a:t>, </a:t>
                      </a:r>
                      <a:r>
                        <a:rPr b="0" lang="fr-FR" sz="1200" spc="-1" strike="noStrike">
                          <a:solidFill>
                            <a:srgbClr val="000000"/>
                          </a:solidFill>
                          <a:latin typeface="바탕"/>
                          <a:ea typeface="바탕"/>
                        </a:rPr>
                        <a:t>aplicand cunostintele lexicale si gramaticale dobandi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                             </a:t>
                      </a:r>
                      <a:r>
                        <a:rPr b="0" lang="fr-FR" sz="1200" spc="-1" strike="noStrike">
                          <a:solidFill>
                            <a:srgbClr val="000000"/>
                          </a:solidFill>
                          <a:latin typeface="바탕"/>
                          <a:ea typeface="바탕"/>
                        </a:rPr>
                        <a:t>(Item 7 ; C 5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7 = 4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22,22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907920" y="454680"/>
            <a:ext cx="49690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900cc"/>
                </a:solidFill>
                <a:latin typeface="Arial"/>
                <a:ea typeface="Times New Roman"/>
              </a:rPr>
              <a:t>Analiza ponderii itemilor aplicaţ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58" name=""/>
          <p:cNvGraphicFramePr/>
          <p:nvPr/>
        </p:nvGraphicFramePr>
        <p:xfrm>
          <a:off x="404640" y="1116000"/>
          <a:ext cx="5688000" cy="6191280"/>
        </p:xfrm>
        <a:graphic>
          <a:graphicData uri="http://schemas.openxmlformats.org/drawingml/2006/table">
            <a:tbl>
              <a:tblPr/>
              <a:tblGrid>
                <a:gridCol w="1895760"/>
                <a:gridCol w="1896120"/>
                <a:gridCol w="1896120"/>
              </a:tblGrid>
              <a:tr h="1238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Tipul de ite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Punctaj maxi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Procent din notă</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23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Itemi obiectiv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4 punc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4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23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Itemi semiobiectiv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2 punc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2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23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Itemi subiectiv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3 punc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3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23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Punctaj din oficiu</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1 pun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1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159" name=""/>
          <p:cNvSpPr/>
          <p:nvPr/>
        </p:nvSpPr>
        <p:spPr>
          <a:xfrm>
            <a:off x="0" y="554832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160" name=""/>
          <p:cNvSpPr/>
          <p:nvPr/>
        </p:nvSpPr>
        <p:spPr>
          <a:xfrm>
            <a:off x="765000" y="826920"/>
            <a:ext cx="4535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620640" y="755640"/>
            <a:ext cx="5472360" cy="777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Concluzii :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2000" spc="-1" strike="noStrike">
                <a:solidFill>
                  <a:srgbClr val="000000"/>
                </a:solidFill>
                <a:latin typeface="Comic Sans MS"/>
              </a:rPr>
              <a:t>majoritatea elevilor sunt capabili sa desprinda informatiile esentiale dintr-un text scris intr-un limbaj standard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majoritatea elevilor pot sa redacteze un portret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majoritatea elevilor stiu sa diferentieze contextele de folosire a subjonctivului de situatii in care se folosesc alte moduri sau timpuri verbale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majoritatea elevilor recunosc diferitele grade de comparatie ale adverbelor neregulate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doar un procent de 22- 33 % dintre elevii evaluati sunt capabili sa utilizeze subjonctivul si gradele de comparatie ale adverbelor neregulate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numai 22,22% dintre elevi sunt capabili  sa traduca un text din limba romana in limba franceza</a:t>
            </a:r>
            <a:r>
              <a:rPr b="1" lang="fr-FR" sz="2000" spc="-1" strike="noStrike">
                <a:solidFill>
                  <a:srgbClr val="000000"/>
                </a:solidFill>
                <a:latin typeface="Comic Sans MS"/>
              </a:rPr>
              <a:t>,</a:t>
            </a:r>
            <a:r>
              <a:rPr b="0" lang="fr-FR" sz="2000" spc="-1" strike="noStrike">
                <a:solidFill>
                  <a:srgbClr val="000000"/>
                </a:solidFill>
                <a:latin typeface="Comic Sans MS"/>
              </a:rPr>
              <a:t> cor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162" name=""/>
          <p:cNvSpPr/>
          <p:nvPr/>
        </p:nvSpPr>
        <p:spPr>
          <a:xfrm>
            <a:off x="404640" y="250920"/>
            <a:ext cx="5832720" cy="716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Tinand cont de faptul ca scopul acestei evaluari a fost nu numai sumativ, ci si formativ, in ansamblul transmiterii/ insusirii cunostintelor pe parcursul intregului an scolar, consideram ca proba de evaluare </a:t>
            </a:r>
            <a:r>
              <a:rPr b="1" lang="fr-FR" sz="2000" spc="-1" strike="noStrike">
                <a:solidFill>
                  <a:srgbClr val="000000"/>
                </a:solidFill>
                <a:latin typeface="Comic Sans MS"/>
              </a:rPr>
              <a:t>a fost eficace</a:t>
            </a:r>
            <a:r>
              <a:rPr b="0" lang="fr-FR" sz="2000" spc="-1" strike="noStrike">
                <a:solidFill>
                  <a:srgbClr val="000000"/>
                </a:solidFill>
                <a:latin typeface="Comic Sans MS"/>
              </a:rPr>
              <a:t>, in sensul sintetizarii aspectelor ce urmeaza a sta in continuare in atentia noastra : revenirea asupra aplicarii subjonctivului si a gradelor de comparatie in baterii de exercitii cu grad din ce in ce mai sporit de dificultate, culminand cu traduceri de texte ; grupul tinta pentru acest program de recuperare este grupul de elevi care au rezolvat itemii 5-6-7 in proportie de mai putin de 75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Acest program de recuperare a lacunelor se va desfasura in ore de consultatii, pe parcursul anului scola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Din fericire, in programa revizuita, subjonctivul, considerandu-se prea dificil de inteles si insusit,  nu mai apare la clasa a VIII-a.</a:t>
            </a:r>
            <a:r>
              <a:rPr b="0" lang="fr-FR"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163" name=""/>
          <p:cNvSpPr/>
          <p:nvPr/>
        </p:nvSpPr>
        <p:spPr>
          <a:xfrm>
            <a:off x="549360" y="1042920"/>
            <a:ext cx="5472000" cy="67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1" lang="fr-FR" sz="2000" spc="-1" strike="noStrike">
                <a:solidFill>
                  <a:srgbClr val="000000"/>
                </a:solidFill>
                <a:latin typeface="Comic Sans MS"/>
              </a:rPr>
              <a:t>2.</a:t>
            </a:r>
            <a:r>
              <a:rPr b="0" lang="fr-FR" sz="2000" spc="-1" strike="noStrike">
                <a:solidFill>
                  <a:srgbClr val="000000"/>
                </a:solidFill>
                <a:latin typeface="Comic Sans MS"/>
              </a:rPr>
              <a:t>   </a:t>
            </a:r>
            <a:r>
              <a:rPr b="1" lang="fr-FR" sz="2000" spc="-1" strike="noStrike">
                <a:solidFill>
                  <a:srgbClr val="000000"/>
                </a:solidFill>
                <a:latin typeface="Comic Sans MS"/>
              </a:rPr>
              <a:t>Gradul de eficienta al probei de evalua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Consideram ca proba de evaluare a fost eficienta, elevii incadrandu-se in timpul acordat</a:t>
            </a:r>
            <a:r>
              <a:rPr b="1" lang="fr-FR" sz="2000" spc="-1" strike="noStrike">
                <a:solidFill>
                  <a:srgbClr val="000000"/>
                </a:solidFill>
                <a:latin typeface="Comic Sans MS"/>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     </a:t>
            </a:r>
            <a:r>
              <a:rPr b="1" lang="fr-FR" sz="2000" spc="-1" strike="noStrike">
                <a:solidFill>
                  <a:srgbClr val="000000"/>
                </a:solidFill>
                <a:latin typeface="Comic Sans MS"/>
              </a:rPr>
              <a:t>3.   Distributia itemilor in raport cu obiectivele de evaluare pentru domeniul cognitiv.</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Proba de evaluare a acoperit 5 din cele 6 niveluri cognitive ale taxonomiei lui B.S.Bloom si anum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intelegerea –  3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aplica</a:t>
            </a:r>
            <a:r>
              <a:rPr b="0" lang="en-US" sz="2000" spc="-1" strike="noStrike">
                <a:solidFill>
                  <a:srgbClr val="000000"/>
                </a:solidFill>
                <a:latin typeface="Comic Sans MS"/>
              </a:rPr>
              <a:t>rea     –  4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naliza        -   1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inteza        -   2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unoasterea este implici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preciem proba ca fiind echilibra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3T15:11:21Z</dcterms:created>
  <dc:creator>LUCIA</dc:creator>
  <dc:description/>
  <dc:language>en-US</dc:language>
  <cp:lastModifiedBy>LUCIA</cp:lastModifiedBy>
  <dcterms:modified xsi:type="dcterms:W3CDTF">2009-05-09T15:51:47Z</dcterms:modified>
  <cp:revision>12</cp:revision>
  <dc:subject/>
  <dc:title>Slide 1</dc:title>
</cp:coreProperties>
</file>